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9F3-9142-43A4-9B99-FD06888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20D-6263-4DA7-BF11-85895077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555-0965-41F6-A363-17A756A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43A-6B58-492D-AA2E-3CF3DF6A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8DC-625C-45AA-A6DD-AA82017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D6A-F11B-4AED-975F-38379379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0E2-D698-4A95-B6D0-D5D17A1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7F6-7AF8-4D55-83D3-22B8E728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FAC-88AB-4373-B0F5-934E61E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17D-5A4D-4083-BD24-EB391A5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1ED-B1AD-4523-9227-DC3F463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69A-F410-489A-9836-EAD4E38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3060-C8DB-4791-9B46-14274036E3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4480" y="0"/>
            <a:ext cx="697248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531720"/>
            <a:ext cx="434340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49360" y="6227640"/>
            <a:ext cx="4114800" cy="1274760"/>
            <a:chOff x="2349360" y="6227640"/>
            <a:chExt cx="4114800" cy="1274760"/>
          </a:xfrm>
        </p:grpSpPr>
        <p:sp>
          <p:nvSpPr>
            <p:cNvPr id="44" name=""/>
            <p:cNvSpPr/>
            <p:nvPr/>
          </p:nvSpPr>
          <p:spPr>
            <a:xfrm>
              <a:off x="2349360" y="6227640"/>
              <a:ext cx="4114800" cy="12747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cap="rnd" w="76320">
              <a:solidFill>
                <a:srgbClr val="cc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50160" y="6333840"/>
              <a:ext cx="3895920" cy="1062360"/>
            </a:xfrm>
            <a:prstGeom prst="flowChartAlternateProcess">
              <a:avLst/>
            </a:prstGeom>
            <a:solidFill>
              <a:srgbClr val="ffffff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..............................................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سمي الجميل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...............................................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صفي الممي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92280" y="2556000"/>
            <a:ext cx="3006720" cy="3297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133720" y="1547640"/>
            <a:ext cx="4000320" cy="3722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Monotype Koufi"/>
              </a:rPr>
              <a:t>مهارات لغت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Monotype Koufi"/>
              <a:ea typeface="Monotype Koufi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7867800"/>
            <a:ext cx="4000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33360" y="826920"/>
            <a:ext cx="2171880" cy="7836120"/>
            <a:chOff x="333360" y="826920"/>
            <a:chExt cx="2171880" cy="78361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 rot="5400000">
              <a:off x="-843840" y="2118240"/>
              <a:ext cx="3827160" cy="12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 rot="5400000">
              <a:off x="-730080" y="6052320"/>
              <a:ext cx="3827160" cy="12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333360" y="6674400"/>
              <a:ext cx="2171880" cy="198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9" name=""/>
            <p:cNvGrpSpPr/>
            <p:nvPr/>
          </p:nvGrpSpPr>
          <p:grpSpPr>
            <a:xfrm>
              <a:off x="442440" y="525240"/>
              <a:ext cx="6415560" cy="8303040"/>
              <a:chOff x="442440" y="525240"/>
              <a:chExt cx="6415560" cy="83030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42440" y="525240"/>
                <a:ext cx="3339360" cy="8303040"/>
                <a:chOff x="442440" y="525240"/>
                <a:chExt cx="3339360" cy="830304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124080" y="5252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ض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124080" y="112212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طِ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124080" y="17193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ظ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5760" y="5252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5760" y="112212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5760" y="17193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5760" y="231624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5760" y="291348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5760" y="35107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4080" y="231624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124080" y="291348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غ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124080" y="35107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54840" y="610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554840" y="120708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554840" y="18896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1554840" y="248724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554840" y="308448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554840" y="36813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131640" y="41054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31640" y="470268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ِ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131640" y="52995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ل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63320" y="41054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63320" y="470268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63320" y="52995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63320" y="589680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131640" y="589680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م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562040" y="41907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62040" y="47876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62040" y="5470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562040" y="606780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110760" y="652500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110760" y="71222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ـِ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110760" y="77191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42440" y="652500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42440" y="71222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2440" y="77191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2440" y="83163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110760" y="83163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ِ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41160" y="66099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541160" y="7207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541160" y="78894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541160" y="848736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959280" y="840240"/>
                <a:ext cx="2898720" cy="7882560"/>
                <a:chOff x="3959280" y="840240"/>
                <a:chExt cx="2898720" cy="7882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092480" y="840240"/>
                  <a:ext cx="2212200" cy="2943000"/>
                </a:xfrm>
                <a:prstGeom prst="cloudCallout">
                  <a:avLst>
                    <a:gd name="adj1" fmla="val 19611"/>
                    <a:gd name="adj2" fmla="val 9174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92480" y="1576080"/>
                  <a:ext cx="2212200" cy="18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وازن بين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كسرة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المد بالياء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26" name="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3959280" y="5254560"/>
                  <a:ext cx="2898720" cy="3468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20320" y="420840"/>
            <a:ext cx="6416640" cy="8722800"/>
            <a:chOff x="220320" y="420840"/>
            <a:chExt cx="6416640" cy="8722800"/>
          </a:xfrm>
        </p:grpSpPr>
        <p:sp>
          <p:nvSpPr>
            <p:cNvPr id="55" name=""/>
            <p:cNvSpPr/>
            <p:nvPr/>
          </p:nvSpPr>
          <p:spPr>
            <a:xfrm>
              <a:off x="773640" y="840960"/>
              <a:ext cx="5863320" cy="6936480"/>
            </a:xfrm>
            <a:custGeom>
              <a:avLst/>
              <a:gdLst>
                <a:gd name="textAreaLeft" fmla="*/ 286200 w 5863320"/>
                <a:gd name="textAreaRight" fmla="*/ 5577120 w 5863320"/>
                <a:gd name="textAreaTop" fmla="*/ 286200 h 6936480"/>
                <a:gd name="textAreaBottom" fmla="*/ 6650280 h 6936480"/>
              </a:gdLst>
              <a:ahLst/>
              <a:rect l="textAreaLeft" t="textAreaTop" r="textAreaRight" b="textAreaBottom"/>
              <a:pathLst>
                <a:path w="21600" h="25553">
                  <a:moveTo>
                    <a:pt x="3600" y="0"/>
                  </a:moveTo>
                  <a:arcTo wR="3600" hR="3600" stAng="16200000" swAng="-5400000"/>
                  <a:lnTo>
                    <a:pt x="0" y="21953"/>
                  </a:lnTo>
                  <a:arcTo wR="3600" hR="3600" stAng="10800000" swAng="-5400000"/>
                  <a:lnTo>
                    <a:pt x="18000" y="25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288440" y="1529640"/>
              <a:ext cx="5126760" cy="5874480"/>
              <a:chOff x="1288440" y="1529640"/>
              <a:chExt cx="5126760" cy="5874480"/>
            </a:xfrm>
          </p:grpSpPr>
          <p:sp>
            <p:nvSpPr>
              <p:cNvPr id="57" name=""/>
              <p:cNvSpPr/>
              <p:nvPr/>
            </p:nvSpPr>
            <p:spPr>
              <a:xfrm rot="21279600">
                <a:off x="1326600" y="353160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50240" y="34286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06240" y="363456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5400000">
                <a:off x="2442240" y="3387960"/>
                <a:ext cx="812160" cy="109944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86600" y="353160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257400">
                <a:off x="3377520" y="456012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0800000">
                <a:off x="2539080" y="4384440"/>
                <a:ext cx="85248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1649880" y="435420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16200000">
                <a:off x="4487400" y="4373280"/>
                <a:ext cx="812160" cy="109944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0800000">
                <a:off x="5454720" y="43844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0457400">
                <a:off x="3486240" y="538308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58240" y="53834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14240" y="558936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400000">
                <a:off x="2550240" y="5342760"/>
                <a:ext cx="812160" cy="109944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42960" y="53834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21257400">
                <a:off x="2381040" y="648540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4493880" y="6371640"/>
                <a:ext cx="812160" cy="109944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0800000">
                <a:off x="3486240" y="630972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0457400">
                <a:off x="3486240" y="157644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58240" y="157680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14240" y="178236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5400000">
                <a:off x="2550240" y="1535760"/>
                <a:ext cx="812160" cy="109944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2960" y="157680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21257400">
                <a:off x="4457880" y="270792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0800000">
                <a:off x="2646720" y="25322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1757880" y="2502360"/>
                <a:ext cx="985320" cy="871560"/>
              </a:xfrm>
              <a:custGeom>
                <a:avLst/>
                <a:gdLst/>
                <a:ahLst/>
                <a:rect l="l" t="t" r="r" b="b"/>
                <a:pathLst>
                  <a:path w="9858" h="9151">
                    <a:moveTo>
                      <a:pt x="4797" y="2020"/>
                    </a:moveTo>
                    <a:lnTo>
                      <a:pt x="4892" y="1715"/>
                    </a:lnTo>
                    <a:lnTo>
                      <a:pt x="4968" y="1467"/>
                    </a:lnTo>
                    <a:lnTo>
                      <a:pt x="4968" y="1429"/>
                    </a:lnTo>
                    <a:lnTo>
                      <a:pt x="4987" y="1334"/>
                    </a:lnTo>
                    <a:lnTo>
                      <a:pt x="5006" y="1277"/>
                    </a:lnTo>
                    <a:lnTo>
                      <a:pt x="5006" y="1162"/>
                    </a:lnTo>
                    <a:lnTo>
                      <a:pt x="5024" y="1048"/>
                    </a:lnTo>
                    <a:lnTo>
                      <a:pt x="5044" y="934"/>
                    </a:lnTo>
                    <a:lnTo>
                      <a:pt x="5044" y="838"/>
                    </a:lnTo>
                    <a:lnTo>
                      <a:pt x="5024" y="724"/>
                    </a:lnTo>
                    <a:lnTo>
                      <a:pt x="5024" y="553"/>
                    </a:lnTo>
                    <a:lnTo>
                      <a:pt x="5006" y="476"/>
                    </a:lnTo>
                    <a:lnTo>
                      <a:pt x="4949" y="381"/>
                    </a:lnTo>
                    <a:lnTo>
                      <a:pt x="4872" y="305"/>
                    </a:lnTo>
                    <a:lnTo>
                      <a:pt x="4797" y="228"/>
                    </a:lnTo>
                    <a:lnTo>
                      <a:pt x="4701" y="152"/>
                    </a:lnTo>
                    <a:lnTo>
                      <a:pt x="4625" y="76"/>
                    </a:lnTo>
                    <a:lnTo>
                      <a:pt x="4511" y="56"/>
                    </a:lnTo>
                    <a:lnTo>
                      <a:pt x="4416" y="18"/>
                    </a:lnTo>
                    <a:lnTo>
                      <a:pt x="4340" y="0"/>
                    </a:lnTo>
                    <a:lnTo>
                      <a:pt x="2570" y="38"/>
                    </a:lnTo>
                    <a:lnTo>
                      <a:pt x="2779" y="1524"/>
                    </a:lnTo>
                    <a:lnTo>
                      <a:pt x="2779" y="1792"/>
                    </a:lnTo>
                    <a:lnTo>
                      <a:pt x="2741" y="1906"/>
                    </a:lnTo>
                    <a:lnTo>
                      <a:pt x="2741" y="1964"/>
                    </a:lnTo>
                    <a:lnTo>
                      <a:pt x="2722" y="2059"/>
                    </a:lnTo>
                    <a:lnTo>
                      <a:pt x="2684" y="2135"/>
                    </a:lnTo>
                    <a:lnTo>
                      <a:pt x="2646" y="2230"/>
                    </a:lnTo>
                    <a:lnTo>
                      <a:pt x="2589" y="2307"/>
                    </a:lnTo>
                    <a:lnTo>
                      <a:pt x="2532" y="2364"/>
                    </a:lnTo>
                    <a:lnTo>
                      <a:pt x="2494" y="2440"/>
                    </a:lnTo>
                    <a:lnTo>
                      <a:pt x="2399" y="2517"/>
                    </a:lnTo>
                    <a:lnTo>
                      <a:pt x="2342" y="2554"/>
                    </a:lnTo>
                    <a:lnTo>
                      <a:pt x="2284" y="2592"/>
                    </a:lnTo>
                    <a:lnTo>
                      <a:pt x="2208" y="2630"/>
                    </a:lnTo>
                    <a:lnTo>
                      <a:pt x="2132" y="2650"/>
                    </a:lnTo>
                    <a:lnTo>
                      <a:pt x="2055" y="2669"/>
                    </a:lnTo>
                    <a:lnTo>
                      <a:pt x="1980" y="2688"/>
                    </a:lnTo>
                    <a:lnTo>
                      <a:pt x="1904" y="2688"/>
                    </a:lnTo>
                    <a:lnTo>
                      <a:pt x="1847" y="2669"/>
                    </a:lnTo>
                    <a:lnTo>
                      <a:pt x="1752" y="2669"/>
                    </a:lnTo>
                    <a:lnTo>
                      <a:pt x="1695" y="2630"/>
                    </a:lnTo>
                    <a:lnTo>
                      <a:pt x="1618" y="2612"/>
                    </a:lnTo>
                    <a:lnTo>
                      <a:pt x="1561" y="2573"/>
                    </a:lnTo>
                    <a:lnTo>
                      <a:pt x="1218" y="2420"/>
                    </a:lnTo>
                    <a:lnTo>
                      <a:pt x="1123" y="2402"/>
                    </a:lnTo>
                    <a:lnTo>
                      <a:pt x="1066" y="2382"/>
                    </a:lnTo>
                    <a:lnTo>
                      <a:pt x="971" y="2364"/>
                    </a:lnTo>
                    <a:lnTo>
                      <a:pt x="896" y="2364"/>
                    </a:lnTo>
                    <a:lnTo>
                      <a:pt x="838" y="2382"/>
                    </a:lnTo>
                    <a:lnTo>
                      <a:pt x="762" y="2402"/>
                    </a:lnTo>
                    <a:lnTo>
                      <a:pt x="704" y="2420"/>
                    </a:lnTo>
                    <a:lnTo>
                      <a:pt x="629" y="2440"/>
                    </a:lnTo>
                    <a:lnTo>
                      <a:pt x="552" y="2478"/>
                    </a:lnTo>
                    <a:lnTo>
                      <a:pt x="496" y="2517"/>
                    </a:lnTo>
                    <a:lnTo>
                      <a:pt x="439" y="2535"/>
                    </a:lnTo>
                    <a:lnTo>
                      <a:pt x="400" y="2573"/>
                    </a:lnTo>
                    <a:lnTo>
                      <a:pt x="324" y="2630"/>
                    </a:lnTo>
                    <a:lnTo>
                      <a:pt x="286" y="2725"/>
                    </a:lnTo>
                    <a:lnTo>
                      <a:pt x="229" y="2764"/>
                    </a:lnTo>
                    <a:lnTo>
                      <a:pt x="172" y="2840"/>
                    </a:lnTo>
                    <a:lnTo>
                      <a:pt x="134" y="2935"/>
                    </a:lnTo>
                    <a:lnTo>
                      <a:pt x="96" y="2993"/>
                    </a:lnTo>
                    <a:lnTo>
                      <a:pt x="77" y="3069"/>
                    </a:lnTo>
                    <a:lnTo>
                      <a:pt x="57" y="3145"/>
                    </a:lnTo>
                    <a:lnTo>
                      <a:pt x="39" y="3240"/>
                    </a:lnTo>
                    <a:lnTo>
                      <a:pt x="20" y="3317"/>
                    </a:lnTo>
                    <a:lnTo>
                      <a:pt x="0" y="3412"/>
                    </a:lnTo>
                    <a:lnTo>
                      <a:pt x="0" y="3508"/>
                    </a:lnTo>
                    <a:lnTo>
                      <a:pt x="39" y="3641"/>
                    </a:lnTo>
                    <a:lnTo>
                      <a:pt x="57" y="3755"/>
                    </a:lnTo>
                    <a:lnTo>
                      <a:pt x="96" y="3908"/>
                    </a:lnTo>
                    <a:lnTo>
                      <a:pt x="115" y="3928"/>
                    </a:lnTo>
                    <a:lnTo>
                      <a:pt x="344" y="4289"/>
                    </a:lnTo>
                    <a:lnTo>
                      <a:pt x="439" y="4366"/>
                    </a:lnTo>
                    <a:lnTo>
                      <a:pt x="552" y="4404"/>
                    </a:lnTo>
                    <a:lnTo>
                      <a:pt x="667" y="4461"/>
                    </a:lnTo>
                    <a:lnTo>
                      <a:pt x="781" y="4480"/>
                    </a:lnTo>
                    <a:lnTo>
                      <a:pt x="896" y="4499"/>
                    </a:lnTo>
                    <a:lnTo>
                      <a:pt x="1009" y="4499"/>
                    </a:lnTo>
                    <a:lnTo>
                      <a:pt x="1123" y="4480"/>
                    </a:lnTo>
                    <a:lnTo>
                      <a:pt x="1238" y="4441"/>
                    </a:lnTo>
                    <a:lnTo>
                      <a:pt x="1352" y="4404"/>
                    </a:lnTo>
                    <a:lnTo>
                      <a:pt x="1390" y="4366"/>
                    </a:lnTo>
                    <a:lnTo>
                      <a:pt x="1466" y="4366"/>
                    </a:lnTo>
                    <a:lnTo>
                      <a:pt x="1542" y="4346"/>
                    </a:lnTo>
                    <a:lnTo>
                      <a:pt x="1733" y="4346"/>
                    </a:lnTo>
                    <a:lnTo>
                      <a:pt x="1808" y="4366"/>
                    </a:lnTo>
                    <a:lnTo>
                      <a:pt x="1904" y="4404"/>
                    </a:lnTo>
                    <a:lnTo>
                      <a:pt x="1980" y="4480"/>
                    </a:lnTo>
                    <a:lnTo>
                      <a:pt x="2132" y="4614"/>
                    </a:lnTo>
                    <a:lnTo>
                      <a:pt x="2170" y="4709"/>
                    </a:lnTo>
                    <a:lnTo>
                      <a:pt x="2208" y="4784"/>
                    </a:lnTo>
                    <a:lnTo>
                      <a:pt x="2247" y="4899"/>
                    </a:lnTo>
                    <a:lnTo>
                      <a:pt x="2247" y="5147"/>
                    </a:lnTo>
                    <a:lnTo>
                      <a:pt x="2227" y="5224"/>
                    </a:lnTo>
                    <a:lnTo>
                      <a:pt x="2208" y="5281"/>
                    </a:lnTo>
                    <a:lnTo>
                      <a:pt x="1808" y="6443"/>
                    </a:lnTo>
                    <a:lnTo>
                      <a:pt x="3560" y="6673"/>
                    </a:lnTo>
                    <a:lnTo>
                      <a:pt x="3693" y="6710"/>
                    </a:lnTo>
                    <a:lnTo>
                      <a:pt x="3750" y="6748"/>
                    </a:lnTo>
                    <a:lnTo>
                      <a:pt x="3845" y="6806"/>
                    </a:lnTo>
                    <a:lnTo>
                      <a:pt x="3902" y="6825"/>
                    </a:lnTo>
                    <a:lnTo>
                      <a:pt x="3960" y="6882"/>
                    </a:lnTo>
                    <a:lnTo>
                      <a:pt x="4150" y="7073"/>
                    </a:lnTo>
                    <a:lnTo>
                      <a:pt x="4187" y="7130"/>
                    </a:lnTo>
                    <a:lnTo>
                      <a:pt x="4207" y="7188"/>
                    </a:lnTo>
                    <a:lnTo>
                      <a:pt x="4245" y="7225"/>
                    </a:lnTo>
                    <a:lnTo>
                      <a:pt x="4264" y="7321"/>
                    </a:lnTo>
                    <a:lnTo>
                      <a:pt x="4282" y="7398"/>
                    </a:lnTo>
                    <a:lnTo>
                      <a:pt x="4282" y="7531"/>
                    </a:lnTo>
                    <a:lnTo>
                      <a:pt x="4245" y="7702"/>
                    </a:lnTo>
                    <a:lnTo>
                      <a:pt x="4207" y="7874"/>
                    </a:lnTo>
                    <a:lnTo>
                      <a:pt x="4150" y="8026"/>
                    </a:lnTo>
                    <a:lnTo>
                      <a:pt x="4130" y="8141"/>
                    </a:lnTo>
                    <a:lnTo>
                      <a:pt x="4130" y="8351"/>
                    </a:lnTo>
                    <a:lnTo>
                      <a:pt x="4150" y="8446"/>
                    </a:lnTo>
                    <a:lnTo>
                      <a:pt x="4207" y="8579"/>
                    </a:lnTo>
                    <a:lnTo>
                      <a:pt x="4225" y="8674"/>
                    </a:lnTo>
                    <a:lnTo>
                      <a:pt x="4264" y="8712"/>
                    </a:lnTo>
                    <a:lnTo>
                      <a:pt x="4340" y="8807"/>
                    </a:lnTo>
                    <a:lnTo>
                      <a:pt x="4416" y="8865"/>
                    </a:lnTo>
                    <a:lnTo>
                      <a:pt x="4511" y="8942"/>
                    </a:lnTo>
                    <a:lnTo>
                      <a:pt x="4587" y="9017"/>
                    </a:lnTo>
                    <a:lnTo>
                      <a:pt x="4682" y="9075"/>
                    </a:lnTo>
                    <a:lnTo>
                      <a:pt x="4797" y="9094"/>
                    </a:lnTo>
                    <a:lnTo>
                      <a:pt x="4892" y="9112"/>
                    </a:lnTo>
                    <a:lnTo>
                      <a:pt x="5006" y="9151"/>
                    </a:lnTo>
                    <a:lnTo>
                      <a:pt x="5121" y="9151"/>
                    </a:lnTo>
                    <a:lnTo>
                      <a:pt x="5386" y="9132"/>
                    </a:lnTo>
                    <a:lnTo>
                      <a:pt x="5481" y="9112"/>
                    </a:lnTo>
                    <a:lnTo>
                      <a:pt x="5576" y="9075"/>
                    </a:lnTo>
                    <a:lnTo>
                      <a:pt x="5653" y="9037"/>
                    </a:lnTo>
                    <a:lnTo>
                      <a:pt x="5748" y="8979"/>
                    </a:lnTo>
                    <a:lnTo>
                      <a:pt x="5824" y="8922"/>
                    </a:lnTo>
                    <a:lnTo>
                      <a:pt x="5900" y="8846"/>
                    </a:lnTo>
                    <a:lnTo>
                      <a:pt x="5958" y="8769"/>
                    </a:lnTo>
                    <a:lnTo>
                      <a:pt x="6015" y="8674"/>
                    </a:lnTo>
                    <a:lnTo>
                      <a:pt x="6072" y="8599"/>
                    </a:lnTo>
                    <a:lnTo>
                      <a:pt x="6090" y="8503"/>
                    </a:lnTo>
                    <a:lnTo>
                      <a:pt x="6128" y="8407"/>
                    </a:lnTo>
                    <a:lnTo>
                      <a:pt x="6128" y="8312"/>
                    </a:lnTo>
                    <a:lnTo>
                      <a:pt x="6148" y="8198"/>
                    </a:lnTo>
                    <a:lnTo>
                      <a:pt x="6128" y="8103"/>
                    </a:lnTo>
                    <a:lnTo>
                      <a:pt x="6110" y="8007"/>
                    </a:lnTo>
                    <a:lnTo>
                      <a:pt x="6110" y="7988"/>
                    </a:lnTo>
                    <a:lnTo>
                      <a:pt x="6090" y="7911"/>
                    </a:lnTo>
                    <a:lnTo>
                      <a:pt x="6072" y="7816"/>
                    </a:lnTo>
                    <a:lnTo>
                      <a:pt x="6053" y="7741"/>
                    </a:lnTo>
                    <a:lnTo>
                      <a:pt x="6053" y="7454"/>
                    </a:lnTo>
                    <a:lnTo>
                      <a:pt x="6090" y="7359"/>
                    </a:lnTo>
                    <a:lnTo>
                      <a:pt x="6128" y="7263"/>
                    </a:lnTo>
                    <a:lnTo>
                      <a:pt x="6167" y="7188"/>
                    </a:lnTo>
                    <a:lnTo>
                      <a:pt x="6224" y="7130"/>
                    </a:lnTo>
                    <a:lnTo>
                      <a:pt x="6262" y="7073"/>
                    </a:lnTo>
                    <a:lnTo>
                      <a:pt x="6338" y="6997"/>
                    </a:lnTo>
                    <a:lnTo>
                      <a:pt x="6414" y="6958"/>
                    </a:lnTo>
                    <a:lnTo>
                      <a:pt x="6490" y="6901"/>
                    </a:lnTo>
                    <a:lnTo>
                      <a:pt x="6585" y="6882"/>
                    </a:lnTo>
                    <a:lnTo>
                      <a:pt x="6662" y="6863"/>
                    </a:lnTo>
                    <a:lnTo>
                      <a:pt x="6928" y="6863"/>
                    </a:lnTo>
                    <a:lnTo>
                      <a:pt x="7023" y="6901"/>
                    </a:lnTo>
                    <a:lnTo>
                      <a:pt x="9097" y="7511"/>
                    </a:lnTo>
                    <a:lnTo>
                      <a:pt x="9478" y="6177"/>
                    </a:lnTo>
                    <a:lnTo>
                      <a:pt x="9516" y="6024"/>
                    </a:lnTo>
                    <a:lnTo>
                      <a:pt x="9536" y="5910"/>
                    </a:lnTo>
                    <a:lnTo>
                      <a:pt x="9516" y="5777"/>
                    </a:lnTo>
                    <a:lnTo>
                      <a:pt x="9326" y="5414"/>
                    </a:lnTo>
                    <a:lnTo>
                      <a:pt x="9192" y="5319"/>
                    </a:lnTo>
                    <a:lnTo>
                      <a:pt x="9136" y="5281"/>
                    </a:lnTo>
                    <a:lnTo>
                      <a:pt x="9079" y="5242"/>
                    </a:lnTo>
                    <a:lnTo>
                      <a:pt x="9002" y="5224"/>
                    </a:lnTo>
                    <a:lnTo>
                      <a:pt x="8926" y="5224"/>
                    </a:lnTo>
                    <a:lnTo>
                      <a:pt x="8869" y="5204"/>
                    </a:lnTo>
                    <a:lnTo>
                      <a:pt x="8736" y="5204"/>
                    </a:lnTo>
                    <a:lnTo>
                      <a:pt x="8660" y="5224"/>
                    </a:lnTo>
                    <a:lnTo>
                      <a:pt x="8584" y="5224"/>
                    </a:lnTo>
                    <a:lnTo>
                      <a:pt x="8545" y="5242"/>
                    </a:lnTo>
                    <a:lnTo>
                      <a:pt x="8470" y="5281"/>
                    </a:lnTo>
                    <a:lnTo>
                      <a:pt x="8375" y="5300"/>
                    </a:lnTo>
                    <a:lnTo>
                      <a:pt x="8298" y="5319"/>
                    </a:lnTo>
                    <a:lnTo>
                      <a:pt x="8108" y="5319"/>
                    </a:lnTo>
                    <a:lnTo>
                      <a:pt x="8032" y="5300"/>
                    </a:lnTo>
                    <a:lnTo>
                      <a:pt x="7936" y="5300"/>
                    </a:lnTo>
                    <a:lnTo>
                      <a:pt x="7860" y="5262"/>
                    </a:lnTo>
                    <a:lnTo>
                      <a:pt x="7765" y="5224"/>
                    </a:lnTo>
                    <a:lnTo>
                      <a:pt x="7670" y="5129"/>
                    </a:lnTo>
                    <a:lnTo>
                      <a:pt x="7613" y="5052"/>
                    </a:lnTo>
                    <a:lnTo>
                      <a:pt x="7556" y="4976"/>
                    </a:lnTo>
                    <a:lnTo>
                      <a:pt x="7518" y="4899"/>
                    </a:lnTo>
                    <a:lnTo>
                      <a:pt x="7480" y="4804"/>
                    </a:lnTo>
                    <a:lnTo>
                      <a:pt x="7441" y="4689"/>
                    </a:lnTo>
                    <a:lnTo>
                      <a:pt x="7441" y="4537"/>
                    </a:lnTo>
                    <a:lnTo>
                      <a:pt x="7423" y="4404"/>
                    </a:lnTo>
                    <a:lnTo>
                      <a:pt x="7423" y="4118"/>
                    </a:lnTo>
                    <a:lnTo>
                      <a:pt x="7441" y="3984"/>
                    </a:lnTo>
                    <a:lnTo>
                      <a:pt x="7441" y="3851"/>
                    </a:lnTo>
                    <a:lnTo>
                      <a:pt x="7441" y="3813"/>
                    </a:lnTo>
                    <a:lnTo>
                      <a:pt x="7499" y="3736"/>
                    </a:lnTo>
                    <a:lnTo>
                      <a:pt x="7556" y="3565"/>
                    </a:lnTo>
                    <a:lnTo>
                      <a:pt x="7689" y="3412"/>
                    </a:lnTo>
                    <a:lnTo>
                      <a:pt x="7860" y="3317"/>
                    </a:lnTo>
                    <a:lnTo>
                      <a:pt x="8051" y="3260"/>
                    </a:lnTo>
                    <a:lnTo>
                      <a:pt x="8241" y="3260"/>
                    </a:lnTo>
                    <a:lnTo>
                      <a:pt x="8298" y="3278"/>
                    </a:lnTo>
                    <a:lnTo>
                      <a:pt x="8355" y="3278"/>
                    </a:lnTo>
                    <a:lnTo>
                      <a:pt x="8393" y="3317"/>
                    </a:lnTo>
                    <a:lnTo>
                      <a:pt x="8488" y="3393"/>
                    </a:lnTo>
                    <a:lnTo>
                      <a:pt x="8622" y="3470"/>
                    </a:lnTo>
                    <a:lnTo>
                      <a:pt x="8736" y="3565"/>
                    </a:lnTo>
                    <a:lnTo>
                      <a:pt x="8850" y="3622"/>
                    </a:lnTo>
                    <a:lnTo>
                      <a:pt x="8926" y="3660"/>
                    </a:lnTo>
                    <a:lnTo>
                      <a:pt x="8984" y="3698"/>
                    </a:lnTo>
                    <a:lnTo>
                      <a:pt x="9079" y="3718"/>
                    </a:lnTo>
                    <a:lnTo>
                      <a:pt x="9344" y="3718"/>
                    </a:lnTo>
                    <a:lnTo>
                      <a:pt x="9421" y="3679"/>
                    </a:lnTo>
                    <a:lnTo>
                      <a:pt x="9478" y="3641"/>
                    </a:lnTo>
                    <a:lnTo>
                      <a:pt x="9536" y="3622"/>
                    </a:lnTo>
                    <a:lnTo>
                      <a:pt x="9611" y="3565"/>
                    </a:lnTo>
                    <a:lnTo>
                      <a:pt x="9649" y="3526"/>
                    </a:lnTo>
                    <a:lnTo>
                      <a:pt x="9726" y="3470"/>
                    </a:lnTo>
                    <a:lnTo>
                      <a:pt x="9763" y="3412"/>
                    </a:lnTo>
                    <a:lnTo>
                      <a:pt x="9783" y="3375"/>
                    </a:lnTo>
                    <a:lnTo>
                      <a:pt x="9801" y="3278"/>
                    </a:lnTo>
                    <a:lnTo>
                      <a:pt x="9821" y="3222"/>
                    </a:lnTo>
                    <a:lnTo>
                      <a:pt x="9840" y="3126"/>
                    </a:lnTo>
                    <a:lnTo>
                      <a:pt x="9840" y="3069"/>
                    </a:lnTo>
                    <a:lnTo>
                      <a:pt x="9858" y="2612"/>
                    </a:lnTo>
                    <a:lnTo>
                      <a:pt x="9840" y="2230"/>
                    </a:lnTo>
                    <a:lnTo>
                      <a:pt x="9821" y="1849"/>
                    </a:lnTo>
                    <a:lnTo>
                      <a:pt x="9783" y="1467"/>
                    </a:lnTo>
                    <a:lnTo>
                      <a:pt x="9726" y="1086"/>
                    </a:lnTo>
                    <a:lnTo>
                      <a:pt x="9688" y="724"/>
                    </a:lnTo>
                    <a:lnTo>
                      <a:pt x="9668" y="705"/>
                    </a:lnTo>
                    <a:lnTo>
                      <a:pt x="7594" y="171"/>
                    </a:lnTo>
                    <a:lnTo>
                      <a:pt x="7499" y="152"/>
                    </a:lnTo>
                    <a:lnTo>
                      <a:pt x="7346" y="152"/>
                    </a:lnTo>
                    <a:lnTo>
                      <a:pt x="7271" y="171"/>
                    </a:lnTo>
                    <a:lnTo>
                      <a:pt x="7176" y="190"/>
                    </a:lnTo>
                    <a:lnTo>
                      <a:pt x="7137" y="209"/>
                    </a:lnTo>
                    <a:lnTo>
                      <a:pt x="7061" y="228"/>
                    </a:lnTo>
                    <a:lnTo>
                      <a:pt x="7004" y="305"/>
                    </a:lnTo>
                    <a:lnTo>
                      <a:pt x="6928" y="343"/>
                    </a:lnTo>
                    <a:lnTo>
                      <a:pt x="6871" y="400"/>
                    </a:lnTo>
                    <a:lnTo>
                      <a:pt x="6852" y="495"/>
                    </a:lnTo>
                    <a:lnTo>
                      <a:pt x="6795" y="553"/>
                    </a:lnTo>
                    <a:lnTo>
                      <a:pt x="6776" y="648"/>
                    </a:lnTo>
                    <a:lnTo>
                      <a:pt x="6757" y="705"/>
                    </a:lnTo>
                    <a:lnTo>
                      <a:pt x="6737" y="781"/>
                    </a:lnTo>
                    <a:lnTo>
                      <a:pt x="6737" y="876"/>
                    </a:lnTo>
                    <a:lnTo>
                      <a:pt x="6757" y="934"/>
                    </a:lnTo>
                    <a:lnTo>
                      <a:pt x="6757" y="971"/>
                    </a:lnTo>
                    <a:lnTo>
                      <a:pt x="6795" y="1086"/>
                    </a:lnTo>
                    <a:lnTo>
                      <a:pt x="6814" y="1181"/>
                    </a:lnTo>
                    <a:lnTo>
                      <a:pt x="6852" y="1296"/>
                    </a:lnTo>
                    <a:lnTo>
                      <a:pt x="6966" y="1467"/>
                    </a:lnTo>
                    <a:lnTo>
                      <a:pt x="7042" y="1639"/>
                    </a:lnTo>
                    <a:lnTo>
                      <a:pt x="7080" y="1772"/>
                    </a:lnTo>
                    <a:lnTo>
                      <a:pt x="7099" y="1925"/>
                    </a:lnTo>
                    <a:lnTo>
                      <a:pt x="7080" y="2077"/>
                    </a:lnTo>
                    <a:lnTo>
                      <a:pt x="7042" y="2211"/>
                    </a:lnTo>
                    <a:lnTo>
                      <a:pt x="7004" y="2325"/>
                    </a:lnTo>
                    <a:lnTo>
                      <a:pt x="6928" y="2459"/>
                    </a:lnTo>
                    <a:lnTo>
                      <a:pt x="6757" y="2650"/>
                    </a:lnTo>
                    <a:lnTo>
                      <a:pt x="6567" y="2822"/>
                    </a:lnTo>
                    <a:lnTo>
                      <a:pt x="6395" y="2935"/>
                    </a:lnTo>
                    <a:lnTo>
                      <a:pt x="6262" y="2993"/>
                    </a:lnTo>
                    <a:lnTo>
                      <a:pt x="5805" y="3088"/>
                    </a:lnTo>
                    <a:lnTo>
                      <a:pt x="5424" y="3088"/>
                    </a:lnTo>
                    <a:lnTo>
                      <a:pt x="5139" y="3012"/>
                    </a:lnTo>
                    <a:lnTo>
                      <a:pt x="4949" y="2878"/>
                    </a:lnTo>
                    <a:lnTo>
                      <a:pt x="4816" y="2707"/>
                    </a:lnTo>
                    <a:lnTo>
                      <a:pt x="4759" y="2497"/>
                    </a:lnTo>
                    <a:lnTo>
                      <a:pt x="4759" y="2269"/>
                    </a:lnTo>
                    <a:lnTo>
                      <a:pt x="4797" y="202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1375000">
                <a:off x="3594240" y="2502360"/>
                <a:ext cx="852120" cy="102852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0800000">
                <a:off x="5563080" y="2532240"/>
                <a:ext cx="852120" cy="1047600"/>
              </a:xfrm>
              <a:custGeom>
                <a:avLst/>
                <a:gdLst/>
                <a:ahLst/>
                <a:rect l="l" t="t" r="r" b="b"/>
                <a:pathLst>
                  <a:path w="8526" h="11001">
                    <a:moveTo>
                      <a:pt x="2474" y="4881"/>
                    </a:moveTo>
                    <a:lnTo>
                      <a:pt x="2417" y="4824"/>
                    </a:lnTo>
                    <a:lnTo>
                      <a:pt x="2360" y="4766"/>
                    </a:lnTo>
                    <a:lnTo>
                      <a:pt x="2303" y="4709"/>
                    </a:lnTo>
                    <a:lnTo>
                      <a:pt x="2208" y="4671"/>
                    </a:lnTo>
                    <a:lnTo>
                      <a:pt x="2132" y="4653"/>
                    </a:lnTo>
                    <a:lnTo>
                      <a:pt x="2036" y="4633"/>
                    </a:lnTo>
                    <a:lnTo>
                      <a:pt x="1998" y="4633"/>
                    </a:lnTo>
                    <a:lnTo>
                      <a:pt x="1808" y="4653"/>
                    </a:lnTo>
                    <a:lnTo>
                      <a:pt x="1598" y="4709"/>
                    </a:lnTo>
                    <a:lnTo>
                      <a:pt x="1428" y="4766"/>
                    </a:lnTo>
                    <a:lnTo>
                      <a:pt x="1256" y="4843"/>
                    </a:lnTo>
                    <a:lnTo>
                      <a:pt x="1142" y="4881"/>
                    </a:lnTo>
                    <a:lnTo>
                      <a:pt x="1104" y="4900"/>
                    </a:lnTo>
                    <a:lnTo>
                      <a:pt x="989" y="4919"/>
                    </a:lnTo>
                    <a:lnTo>
                      <a:pt x="894" y="4938"/>
                    </a:lnTo>
                    <a:lnTo>
                      <a:pt x="647" y="4938"/>
                    </a:lnTo>
                    <a:lnTo>
                      <a:pt x="532" y="4900"/>
                    </a:lnTo>
                    <a:lnTo>
                      <a:pt x="476" y="4881"/>
                    </a:lnTo>
                    <a:lnTo>
                      <a:pt x="342" y="4824"/>
                    </a:lnTo>
                    <a:lnTo>
                      <a:pt x="267" y="4748"/>
                    </a:lnTo>
                    <a:lnTo>
                      <a:pt x="190" y="4653"/>
                    </a:lnTo>
                    <a:lnTo>
                      <a:pt x="133" y="4576"/>
                    </a:lnTo>
                    <a:lnTo>
                      <a:pt x="76" y="4461"/>
                    </a:lnTo>
                    <a:lnTo>
                      <a:pt x="38" y="4366"/>
                    </a:lnTo>
                    <a:lnTo>
                      <a:pt x="19" y="4251"/>
                    </a:lnTo>
                    <a:lnTo>
                      <a:pt x="0" y="4156"/>
                    </a:lnTo>
                    <a:lnTo>
                      <a:pt x="0" y="4023"/>
                    </a:lnTo>
                    <a:lnTo>
                      <a:pt x="228" y="1887"/>
                    </a:lnTo>
                    <a:lnTo>
                      <a:pt x="2245" y="2307"/>
                    </a:lnTo>
                    <a:lnTo>
                      <a:pt x="2379" y="2326"/>
                    </a:lnTo>
                    <a:lnTo>
                      <a:pt x="2949" y="2326"/>
                    </a:lnTo>
                    <a:lnTo>
                      <a:pt x="3007" y="2307"/>
                    </a:lnTo>
                    <a:lnTo>
                      <a:pt x="3083" y="2269"/>
                    </a:lnTo>
                    <a:lnTo>
                      <a:pt x="3159" y="2212"/>
                    </a:lnTo>
                    <a:lnTo>
                      <a:pt x="3216" y="2154"/>
                    </a:lnTo>
                    <a:lnTo>
                      <a:pt x="3254" y="2136"/>
                    </a:lnTo>
                    <a:lnTo>
                      <a:pt x="3311" y="2059"/>
                    </a:lnTo>
                    <a:lnTo>
                      <a:pt x="3369" y="1983"/>
                    </a:lnTo>
                    <a:lnTo>
                      <a:pt x="3426" y="1906"/>
                    </a:lnTo>
                    <a:lnTo>
                      <a:pt x="3444" y="1831"/>
                    </a:lnTo>
                    <a:lnTo>
                      <a:pt x="3464" y="1754"/>
                    </a:lnTo>
                    <a:lnTo>
                      <a:pt x="3483" y="1659"/>
                    </a:lnTo>
                    <a:lnTo>
                      <a:pt x="3483" y="1468"/>
                    </a:lnTo>
                    <a:lnTo>
                      <a:pt x="3464" y="1373"/>
                    </a:lnTo>
                    <a:lnTo>
                      <a:pt x="3444" y="1296"/>
                    </a:lnTo>
                    <a:lnTo>
                      <a:pt x="3426" y="1201"/>
                    </a:lnTo>
                    <a:lnTo>
                      <a:pt x="3406" y="1125"/>
                    </a:lnTo>
                    <a:lnTo>
                      <a:pt x="3369" y="1011"/>
                    </a:lnTo>
                    <a:lnTo>
                      <a:pt x="3369" y="820"/>
                    </a:lnTo>
                    <a:lnTo>
                      <a:pt x="3406" y="725"/>
                    </a:lnTo>
                    <a:lnTo>
                      <a:pt x="3426" y="629"/>
                    </a:lnTo>
                    <a:lnTo>
                      <a:pt x="3444" y="533"/>
                    </a:lnTo>
                    <a:lnTo>
                      <a:pt x="3521" y="458"/>
                    </a:lnTo>
                    <a:lnTo>
                      <a:pt x="3578" y="400"/>
                    </a:lnTo>
                    <a:lnTo>
                      <a:pt x="3616" y="305"/>
                    </a:lnTo>
                    <a:lnTo>
                      <a:pt x="3693" y="248"/>
                    </a:lnTo>
                    <a:lnTo>
                      <a:pt x="3788" y="190"/>
                    </a:lnTo>
                    <a:lnTo>
                      <a:pt x="3863" y="133"/>
                    </a:lnTo>
                    <a:lnTo>
                      <a:pt x="3958" y="95"/>
                    </a:lnTo>
                    <a:lnTo>
                      <a:pt x="4053" y="57"/>
                    </a:lnTo>
                    <a:lnTo>
                      <a:pt x="4168" y="19"/>
                    </a:lnTo>
                    <a:lnTo>
                      <a:pt x="4282" y="19"/>
                    </a:lnTo>
                    <a:lnTo>
                      <a:pt x="4415" y="0"/>
                    </a:lnTo>
                    <a:lnTo>
                      <a:pt x="4510" y="0"/>
                    </a:lnTo>
                    <a:lnTo>
                      <a:pt x="4625" y="19"/>
                    </a:lnTo>
                    <a:lnTo>
                      <a:pt x="4739" y="19"/>
                    </a:lnTo>
                    <a:lnTo>
                      <a:pt x="4852" y="57"/>
                    </a:lnTo>
                    <a:lnTo>
                      <a:pt x="4947" y="95"/>
                    </a:lnTo>
                    <a:lnTo>
                      <a:pt x="5044" y="133"/>
                    </a:lnTo>
                    <a:lnTo>
                      <a:pt x="5100" y="172"/>
                    </a:lnTo>
                    <a:lnTo>
                      <a:pt x="5176" y="210"/>
                    </a:lnTo>
                    <a:lnTo>
                      <a:pt x="5234" y="267"/>
                    </a:lnTo>
                    <a:lnTo>
                      <a:pt x="5309" y="343"/>
                    </a:lnTo>
                    <a:lnTo>
                      <a:pt x="5348" y="400"/>
                    </a:lnTo>
                    <a:lnTo>
                      <a:pt x="5404" y="477"/>
                    </a:lnTo>
                    <a:lnTo>
                      <a:pt x="5424" y="515"/>
                    </a:lnTo>
                    <a:lnTo>
                      <a:pt x="5443" y="591"/>
                    </a:lnTo>
                    <a:lnTo>
                      <a:pt x="5500" y="725"/>
                    </a:lnTo>
                    <a:lnTo>
                      <a:pt x="5500" y="1030"/>
                    </a:lnTo>
                    <a:lnTo>
                      <a:pt x="5481" y="1144"/>
                    </a:lnTo>
                    <a:lnTo>
                      <a:pt x="5424" y="1296"/>
                    </a:lnTo>
                    <a:lnTo>
                      <a:pt x="5367" y="1430"/>
                    </a:lnTo>
                    <a:lnTo>
                      <a:pt x="5329" y="1583"/>
                    </a:lnTo>
                    <a:lnTo>
                      <a:pt x="5309" y="1716"/>
                    </a:lnTo>
                    <a:lnTo>
                      <a:pt x="5309" y="1869"/>
                    </a:lnTo>
                    <a:lnTo>
                      <a:pt x="5329" y="1944"/>
                    </a:lnTo>
                    <a:lnTo>
                      <a:pt x="5367" y="2021"/>
                    </a:lnTo>
                    <a:lnTo>
                      <a:pt x="5424" y="2097"/>
                    </a:lnTo>
                    <a:lnTo>
                      <a:pt x="5481" y="2154"/>
                    </a:lnTo>
                    <a:lnTo>
                      <a:pt x="5519" y="2231"/>
                    </a:lnTo>
                    <a:lnTo>
                      <a:pt x="5595" y="2269"/>
                    </a:lnTo>
                    <a:lnTo>
                      <a:pt x="5671" y="2326"/>
                    </a:lnTo>
                    <a:lnTo>
                      <a:pt x="5748" y="2326"/>
                    </a:lnTo>
                    <a:lnTo>
                      <a:pt x="5786" y="2364"/>
                    </a:lnTo>
                    <a:lnTo>
                      <a:pt x="6261" y="2364"/>
                    </a:lnTo>
                    <a:lnTo>
                      <a:pt x="6470" y="2326"/>
                    </a:lnTo>
                    <a:lnTo>
                      <a:pt x="8203" y="2097"/>
                    </a:lnTo>
                    <a:lnTo>
                      <a:pt x="8526" y="3585"/>
                    </a:lnTo>
                    <a:lnTo>
                      <a:pt x="8526" y="3737"/>
                    </a:lnTo>
                    <a:lnTo>
                      <a:pt x="8526" y="3928"/>
                    </a:lnTo>
                    <a:lnTo>
                      <a:pt x="8488" y="4118"/>
                    </a:lnTo>
                    <a:lnTo>
                      <a:pt x="8373" y="4309"/>
                    </a:lnTo>
                    <a:lnTo>
                      <a:pt x="8183" y="4461"/>
                    </a:lnTo>
                    <a:lnTo>
                      <a:pt x="7879" y="4556"/>
                    </a:lnTo>
                    <a:lnTo>
                      <a:pt x="7460" y="4576"/>
                    </a:lnTo>
                    <a:lnTo>
                      <a:pt x="6889" y="4500"/>
                    </a:lnTo>
                    <a:lnTo>
                      <a:pt x="6699" y="4500"/>
                    </a:lnTo>
                    <a:lnTo>
                      <a:pt x="6604" y="4518"/>
                    </a:lnTo>
                    <a:lnTo>
                      <a:pt x="6528" y="4595"/>
                    </a:lnTo>
                    <a:lnTo>
                      <a:pt x="6413" y="4728"/>
                    </a:lnTo>
                    <a:lnTo>
                      <a:pt x="6337" y="4900"/>
                    </a:lnTo>
                    <a:lnTo>
                      <a:pt x="6280" y="5109"/>
                    </a:lnTo>
                    <a:lnTo>
                      <a:pt x="6242" y="5301"/>
                    </a:lnTo>
                    <a:lnTo>
                      <a:pt x="6223" y="5586"/>
                    </a:lnTo>
                    <a:lnTo>
                      <a:pt x="6261" y="5834"/>
                    </a:lnTo>
                    <a:lnTo>
                      <a:pt x="6280" y="6025"/>
                    </a:lnTo>
                    <a:lnTo>
                      <a:pt x="6337" y="6197"/>
                    </a:lnTo>
                    <a:lnTo>
                      <a:pt x="6413" y="6330"/>
                    </a:lnTo>
                    <a:lnTo>
                      <a:pt x="6490" y="6444"/>
                    </a:lnTo>
                    <a:lnTo>
                      <a:pt x="6604" y="6559"/>
                    </a:lnTo>
                    <a:lnTo>
                      <a:pt x="6908" y="6750"/>
                    </a:lnTo>
                    <a:lnTo>
                      <a:pt x="7137" y="6654"/>
                    </a:lnTo>
                    <a:lnTo>
                      <a:pt x="7251" y="6615"/>
                    </a:lnTo>
                    <a:lnTo>
                      <a:pt x="7327" y="6578"/>
                    </a:lnTo>
                    <a:lnTo>
                      <a:pt x="7422" y="6520"/>
                    </a:lnTo>
                    <a:lnTo>
                      <a:pt x="7479" y="6502"/>
                    </a:lnTo>
                    <a:lnTo>
                      <a:pt x="7536" y="6502"/>
                    </a:lnTo>
                    <a:lnTo>
                      <a:pt x="7631" y="6482"/>
                    </a:lnTo>
                    <a:lnTo>
                      <a:pt x="7784" y="6482"/>
                    </a:lnTo>
                    <a:lnTo>
                      <a:pt x="7860" y="6502"/>
                    </a:lnTo>
                    <a:lnTo>
                      <a:pt x="7955" y="6502"/>
                    </a:lnTo>
                    <a:lnTo>
                      <a:pt x="7993" y="6540"/>
                    </a:lnTo>
                    <a:lnTo>
                      <a:pt x="8069" y="6578"/>
                    </a:lnTo>
                    <a:lnTo>
                      <a:pt x="8145" y="6615"/>
                    </a:lnTo>
                    <a:lnTo>
                      <a:pt x="8183" y="6673"/>
                    </a:lnTo>
                    <a:lnTo>
                      <a:pt x="8221" y="6750"/>
                    </a:lnTo>
                    <a:lnTo>
                      <a:pt x="8278" y="6825"/>
                    </a:lnTo>
                    <a:lnTo>
                      <a:pt x="8316" y="6883"/>
                    </a:lnTo>
                    <a:lnTo>
                      <a:pt x="8316" y="6940"/>
                    </a:lnTo>
                    <a:lnTo>
                      <a:pt x="8335" y="7055"/>
                    </a:lnTo>
                    <a:lnTo>
                      <a:pt x="8335" y="7188"/>
                    </a:lnTo>
                    <a:lnTo>
                      <a:pt x="8335" y="7302"/>
                    </a:lnTo>
                    <a:lnTo>
                      <a:pt x="8069" y="8579"/>
                    </a:lnTo>
                    <a:lnTo>
                      <a:pt x="6756" y="8523"/>
                    </a:lnTo>
                    <a:lnTo>
                      <a:pt x="5748" y="8523"/>
                    </a:lnTo>
                    <a:lnTo>
                      <a:pt x="5443" y="8561"/>
                    </a:lnTo>
                    <a:lnTo>
                      <a:pt x="5348" y="8579"/>
                    </a:lnTo>
                    <a:lnTo>
                      <a:pt x="5214" y="8656"/>
                    </a:lnTo>
                    <a:lnTo>
                      <a:pt x="5139" y="8732"/>
                    </a:lnTo>
                    <a:lnTo>
                      <a:pt x="5062" y="8828"/>
                    </a:lnTo>
                    <a:lnTo>
                      <a:pt x="5024" y="8904"/>
                    </a:lnTo>
                    <a:lnTo>
                      <a:pt x="4967" y="8980"/>
                    </a:lnTo>
                    <a:lnTo>
                      <a:pt x="4947" y="9094"/>
                    </a:lnTo>
                    <a:lnTo>
                      <a:pt x="4929" y="9189"/>
                    </a:lnTo>
                    <a:lnTo>
                      <a:pt x="4929" y="9304"/>
                    </a:lnTo>
                    <a:lnTo>
                      <a:pt x="4967" y="9399"/>
                    </a:lnTo>
                    <a:lnTo>
                      <a:pt x="4986" y="9514"/>
                    </a:lnTo>
                    <a:lnTo>
                      <a:pt x="5024" y="9590"/>
                    </a:lnTo>
                    <a:lnTo>
                      <a:pt x="5044" y="9667"/>
                    </a:lnTo>
                    <a:lnTo>
                      <a:pt x="5139" y="9952"/>
                    </a:lnTo>
                    <a:lnTo>
                      <a:pt x="5139" y="10410"/>
                    </a:lnTo>
                    <a:lnTo>
                      <a:pt x="5100" y="10525"/>
                    </a:lnTo>
                    <a:lnTo>
                      <a:pt x="5044" y="10600"/>
                    </a:lnTo>
                    <a:lnTo>
                      <a:pt x="5005" y="10696"/>
                    </a:lnTo>
                    <a:lnTo>
                      <a:pt x="4891" y="10772"/>
                    </a:lnTo>
                    <a:lnTo>
                      <a:pt x="4777" y="10848"/>
                    </a:lnTo>
                    <a:lnTo>
                      <a:pt x="4662" y="10906"/>
                    </a:lnTo>
                    <a:lnTo>
                      <a:pt x="4530" y="10943"/>
                    </a:lnTo>
                    <a:lnTo>
                      <a:pt x="4415" y="11001"/>
                    </a:lnTo>
                    <a:lnTo>
                      <a:pt x="4263" y="11001"/>
                    </a:lnTo>
                    <a:lnTo>
                      <a:pt x="4148" y="11001"/>
                    </a:lnTo>
                    <a:lnTo>
                      <a:pt x="3920" y="11001"/>
                    </a:lnTo>
                    <a:lnTo>
                      <a:pt x="3788" y="11001"/>
                    </a:lnTo>
                    <a:lnTo>
                      <a:pt x="3654" y="10943"/>
                    </a:lnTo>
                    <a:lnTo>
                      <a:pt x="3521" y="10925"/>
                    </a:lnTo>
                    <a:lnTo>
                      <a:pt x="3406" y="10868"/>
                    </a:lnTo>
                    <a:lnTo>
                      <a:pt x="3273" y="10772"/>
                    </a:lnTo>
                    <a:lnTo>
                      <a:pt x="3178" y="10715"/>
                    </a:lnTo>
                    <a:lnTo>
                      <a:pt x="3102" y="10620"/>
                    </a:lnTo>
                    <a:lnTo>
                      <a:pt x="3026" y="10525"/>
                    </a:lnTo>
                    <a:lnTo>
                      <a:pt x="2988" y="10429"/>
                    </a:lnTo>
                    <a:lnTo>
                      <a:pt x="2949" y="10315"/>
                    </a:lnTo>
                    <a:lnTo>
                      <a:pt x="2912" y="10200"/>
                    </a:lnTo>
                    <a:lnTo>
                      <a:pt x="2912" y="9990"/>
                    </a:lnTo>
                    <a:lnTo>
                      <a:pt x="2949" y="9895"/>
                    </a:lnTo>
                    <a:lnTo>
                      <a:pt x="3007" y="9742"/>
                    </a:lnTo>
                    <a:lnTo>
                      <a:pt x="3045" y="9590"/>
                    </a:lnTo>
                    <a:lnTo>
                      <a:pt x="3102" y="9437"/>
                    </a:lnTo>
                    <a:lnTo>
                      <a:pt x="3121" y="9285"/>
                    </a:lnTo>
                    <a:lnTo>
                      <a:pt x="3140" y="9132"/>
                    </a:lnTo>
                    <a:lnTo>
                      <a:pt x="3140" y="9019"/>
                    </a:lnTo>
                    <a:lnTo>
                      <a:pt x="3102" y="8942"/>
                    </a:lnTo>
                    <a:lnTo>
                      <a:pt x="3083" y="8884"/>
                    </a:lnTo>
                    <a:lnTo>
                      <a:pt x="3045" y="8789"/>
                    </a:lnTo>
                    <a:lnTo>
                      <a:pt x="3007" y="8732"/>
                    </a:lnTo>
                    <a:lnTo>
                      <a:pt x="2969" y="8676"/>
                    </a:lnTo>
                    <a:lnTo>
                      <a:pt x="2797" y="8503"/>
                    </a:lnTo>
                    <a:lnTo>
                      <a:pt x="2722" y="8466"/>
                    </a:lnTo>
                    <a:lnTo>
                      <a:pt x="2645" y="8408"/>
                    </a:lnTo>
                    <a:lnTo>
                      <a:pt x="2532" y="8370"/>
                    </a:lnTo>
                    <a:lnTo>
                      <a:pt x="2417" y="8351"/>
                    </a:lnTo>
                    <a:lnTo>
                      <a:pt x="2303" y="8294"/>
                    </a:lnTo>
                    <a:lnTo>
                      <a:pt x="2188" y="8275"/>
                    </a:lnTo>
                    <a:lnTo>
                      <a:pt x="2075" y="8275"/>
                    </a:lnTo>
                    <a:lnTo>
                      <a:pt x="1941" y="8275"/>
                    </a:lnTo>
                    <a:lnTo>
                      <a:pt x="1903" y="8256"/>
                    </a:lnTo>
                    <a:lnTo>
                      <a:pt x="1580" y="8256"/>
                    </a:lnTo>
                    <a:lnTo>
                      <a:pt x="1237" y="8275"/>
                    </a:lnTo>
                    <a:lnTo>
                      <a:pt x="894" y="8275"/>
                    </a:lnTo>
                    <a:lnTo>
                      <a:pt x="552" y="8294"/>
                    </a:lnTo>
                    <a:lnTo>
                      <a:pt x="267" y="8313"/>
                    </a:lnTo>
                    <a:lnTo>
                      <a:pt x="95" y="7188"/>
                    </a:lnTo>
                    <a:lnTo>
                      <a:pt x="95" y="7055"/>
                    </a:lnTo>
                    <a:lnTo>
                      <a:pt x="133" y="6978"/>
                    </a:lnTo>
                    <a:lnTo>
                      <a:pt x="133" y="6902"/>
                    </a:lnTo>
                    <a:lnTo>
                      <a:pt x="172" y="6864"/>
                    </a:lnTo>
                    <a:lnTo>
                      <a:pt x="210" y="6787"/>
                    </a:lnTo>
                    <a:lnTo>
                      <a:pt x="247" y="6712"/>
                    </a:lnTo>
                    <a:lnTo>
                      <a:pt x="362" y="6597"/>
                    </a:lnTo>
                    <a:lnTo>
                      <a:pt x="419" y="6559"/>
                    </a:lnTo>
                    <a:lnTo>
                      <a:pt x="495" y="6520"/>
                    </a:lnTo>
                    <a:lnTo>
                      <a:pt x="552" y="6502"/>
                    </a:lnTo>
                    <a:lnTo>
                      <a:pt x="629" y="6502"/>
                    </a:lnTo>
                    <a:lnTo>
                      <a:pt x="704" y="6482"/>
                    </a:lnTo>
                    <a:lnTo>
                      <a:pt x="837" y="6502"/>
                    </a:lnTo>
                    <a:lnTo>
                      <a:pt x="894" y="6502"/>
                    </a:lnTo>
                    <a:lnTo>
                      <a:pt x="1846" y="6540"/>
                    </a:lnTo>
                    <a:lnTo>
                      <a:pt x="1941" y="6520"/>
                    </a:lnTo>
                    <a:lnTo>
                      <a:pt x="2036" y="6502"/>
                    </a:lnTo>
                    <a:lnTo>
                      <a:pt x="2132" y="6444"/>
                    </a:lnTo>
                    <a:lnTo>
                      <a:pt x="2208" y="6407"/>
                    </a:lnTo>
                    <a:lnTo>
                      <a:pt x="2303" y="6330"/>
                    </a:lnTo>
                    <a:lnTo>
                      <a:pt x="2322" y="6292"/>
                    </a:lnTo>
                    <a:lnTo>
                      <a:pt x="2398" y="6197"/>
                    </a:lnTo>
                    <a:lnTo>
                      <a:pt x="2474" y="6062"/>
                    </a:lnTo>
                    <a:lnTo>
                      <a:pt x="2512" y="5949"/>
                    </a:lnTo>
                    <a:lnTo>
                      <a:pt x="2569" y="5796"/>
                    </a:lnTo>
                    <a:lnTo>
                      <a:pt x="2588" y="5148"/>
                    </a:lnTo>
                    <a:lnTo>
                      <a:pt x="2569" y="5033"/>
                    </a:lnTo>
                    <a:lnTo>
                      <a:pt x="2532" y="4957"/>
                    </a:lnTo>
                    <a:lnTo>
                      <a:pt x="2474" y="4881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5646240" y="2091240"/>
                <a:ext cx="179640" cy="411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أ</a:t>
                </a:r>
                <a:endParaRPr b="0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4674600" y="1885320"/>
                <a:ext cx="431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ب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1866600" y="1885320"/>
                <a:ext cx="323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ج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3810600" y="2811240"/>
                <a:ext cx="323640" cy="30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د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5430240" y="3943080"/>
                <a:ext cx="323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ز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514600" y="3737160"/>
                <a:ext cx="647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ص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4674600" y="4663440"/>
                <a:ext cx="431640" cy="411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ظ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1866600" y="4560480"/>
                <a:ext cx="431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ف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702600" y="5589360"/>
                <a:ext cx="323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ل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4649040" y="6691320"/>
                <a:ext cx="431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هـ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2705400" y="6794280"/>
                <a:ext cx="431640" cy="394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ي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 flipH="1">
              <a:off x="220320" y="6411240"/>
              <a:ext cx="2986920" cy="273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1437480" y="420840"/>
              <a:ext cx="4425120" cy="875520"/>
              <a:chOff x="1437480" y="420840"/>
              <a:chExt cx="4425120" cy="875520"/>
            </a:xfrm>
          </p:grpSpPr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1437480" y="420480"/>
                <a:ext cx="4425120" cy="8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2211840" y="630720"/>
                <a:ext cx="3429360" cy="420120"/>
              </a:xfrm>
              <a:prstGeom prst="rect">
                <a:avLst/>
              </a:prstGeom>
              <a:solidFill>
                <a:srgbClr val="ffffff">
                  <a:alpha val="95000"/>
                </a:srgbClr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كملي حروف الهجا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774720" y="1050840"/>
            <a:ext cx="5862240" cy="7042320"/>
            <a:chOff x="774720" y="1050840"/>
            <a:chExt cx="5862240" cy="7042320"/>
          </a:xfrm>
        </p:grpSpPr>
        <p:grpSp>
          <p:nvGrpSpPr>
            <p:cNvPr id="102" name=""/>
            <p:cNvGrpSpPr/>
            <p:nvPr/>
          </p:nvGrpSpPr>
          <p:grpSpPr>
            <a:xfrm>
              <a:off x="774720" y="1050840"/>
              <a:ext cx="5862240" cy="7042320"/>
              <a:chOff x="774720" y="1050840"/>
              <a:chExt cx="5862240" cy="7042320"/>
            </a:xfrm>
          </p:grpSpPr>
          <p:sp>
            <p:nvSpPr>
              <p:cNvPr id="103" name=""/>
              <p:cNvSpPr/>
              <p:nvPr/>
            </p:nvSpPr>
            <p:spPr>
              <a:xfrm>
                <a:off x="3264480" y="6587280"/>
                <a:ext cx="882360" cy="426600"/>
              </a:xfrm>
              <a:custGeom>
                <a:avLst/>
                <a:gdLst/>
                <a:ahLst/>
                <a:rect l="l" t="t" r="r" b="b"/>
                <a:pathLst>
                  <a:path w="2547" h="948">
                    <a:moveTo>
                      <a:pt x="2547" y="305"/>
                    </a:moveTo>
                    <a:lnTo>
                      <a:pt x="1408" y="0"/>
                    </a:lnTo>
                    <a:lnTo>
                      <a:pt x="0" y="36"/>
                    </a:lnTo>
                    <a:lnTo>
                      <a:pt x="420" y="711"/>
                    </a:lnTo>
                    <a:lnTo>
                      <a:pt x="540" y="880"/>
                    </a:lnTo>
                    <a:lnTo>
                      <a:pt x="1647" y="948"/>
                    </a:lnTo>
                    <a:lnTo>
                      <a:pt x="2515" y="442"/>
                    </a:lnTo>
                    <a:lnTo>
                      <a:pt x="2547" y="30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53560" y="1050840"/>
                <a:ext cx="383400" cy="5613120"/>
              </a:xfrm>
              <a:custGeom>
                <a:avLst/>
                <a:gdLst/>
                <a:ahLst/>
                <a:rect l="l" t="t" r="r" b="b"/>
                <a:pathLst>
                  <a:path w="1110" h="12465">
                    <a:moveTo>
                      <a:pt x="690" y="1180"/>
                    </a:moveTo>
                    <a:lnTo>
                      <a:pt x="0" y="0"/>
                    </a:lnTo>
                    <a:lnTo>
                      <a:pt x="420" y="11791"/>
                    </a:lnTo>
                    <a:lnTo>
                      <a:pt x="1110" y="12465"/>
                    </a:lnTo>
                    <a:lnTo>
                      <a:pt x="690" y="118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32120" y="6360480"/>
                <a:ext cx="2894760" cy="501480"/>
              </a:xfrm>
              <a:custGeom>
                <a:avLst/>
                <a:gdLst/>
                <a:ahLst/>
                <a:rect l="l" t="t" r="r" b="b"/>
                <a:pathLst>
                  <a:path w="8355" h="1116">
                    <a:moveTo>
                      <a:pt x="7729" y="0"/>
                    </a:moveTo>
                    <a:lnTo>
                      <a:pt x="3445" y="269"/>
                    </a:lnTo>
                    <a:lnTo>
                      <a:pt x="2185" y="438"/>
                    </a:lnTo>
                    <a:lnTo>
                      <a:pt x="1288" y="541"/>
                    </a:lnTo>
                    <a:lnTo>
                      <a:pt x="419" y="743"/>
                    </a:lnTo>
                    <a:lnTo>
                      <a:pt x="0" y="878"/>
                    </a:lnTo>
                    <a:lnTo>
                      <a:pt x="181" y="1116"/>
                    </a:lnTo>
                    <a:lnTo>
                      <a:pt x="8355" y="743"/>
                    </a:lnTo>
                    <a:lnTo>
                      <a:pt x="7729" y="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32120" y="6360480"/>
                <a:ext cx="2894760" cy="501480"/>
              </a:xfrm>
              <a:custGeom>
                <a:avLst/>
                <a:gdLst/>
                <a:ahLst/>
                <a:rect l="l" t="t" r="r" b="b"/>
                <a:pathLst>
                  <a:path w="8355" h="1116">
                    <a:moveTo>
                      <a:pt x="7729" y="0"/>
                    </a:moveTo>
                    <a:lnTo>
                      <a:pt x="3445" y="269"/>
                    </a:lnTo>
                    <a:lnTo>
                      <a:pt x="2185" y="438"/>
                    </a:lnTo>
                    <a:lnTo>
                      <a:pt x="1288" y="541"/>
                    </a:lnTo>
                    <a:lnTo>
                      <a:pt x="419" y="743"/>
                    </a:lnTo>
                    <a:lnTo>
                      <a:pt x="0" y="878"/>
                    </a:lnTo>
                    <a:lnTo>
                      <a:pt x="181" y="1116"/>
                    </a:lnTo>
                    <a:lnTo>
                      <a:pt x="8355" y="743"/>
                    </a:lnTo>
                    <a:lnTo>
                      <a:pt x="77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28080" y="1050840"/>
                <a:ext cx="2770920" cy="5705280"/>
              </a:xfrm>
              <a:custGeom>
                <a:avLst/>
                <a:gdLst/>
                <a:ahLst/>
                <a:rect l="l" t="t" r="r" b="b"/>
                <a:pathLst>
                  <a:path w="7996" h="12669">
                    <a:moveTo>
                      <a:pt x="7576" y="0"/>
                    </a:moveTo>
                    <a:lnTo>
                      <a:pt x="6618" y="302"/>
                    </a:lnTo>
                    <a:lnTo>
                      <a:pt x="5751" y="506"/>
                    </a:lnTo>
                    <a:lnTo>
                      <a:pt x="5032" y="574"/>
                    </a:lnTo>
                    <a:lnTo>
                      <a:pt x="3714" y="811"/>
                    </a:lnTo>
                    <a:lnTo>
                      <a:pt x="2306" y="1044"/>
                    </a:lnTo>
                    <a:lnTo>
                      <a:pt x="1587" y="1282"/>
                    </a:lnTo>
                    <a:lnTo>
                      <a:pt x="778" y="1622"/>
                    </a:lnTo>
                    <a:lnTo>
                      <a:pt x="270" y="1924"/>
                    </a:lnTo>
                    <a:lnTo>
                      <a:pt x="209" y="2735"/>
                    </a:lnTo>
                    <a:lnTo>
                      <a:pt x="209" y="2770"/>
                    </a:lnTo>
                    <a:lnTo>
                      <a:pt x="0" y="12669"/>
                    </a:lnTo>
                    <a:lnTo>
                      <a:pt x="358" y="12669"/>
                    </a:lnTo>
                    <a:lnTo>
                      <a:pt x="778" y="12501"/>
                    </a:lnTo>
                    <a:lnTo>
                      <a:pt x="3145" y="12096"/>
                    </a:lnTo>
                    <a:lnTo>
                      <a:pt x="5718" y="11858"/>
                    </a:lnTo>
                    <a:lnTo>
                      <a:pt x="7996" y="11791"/>
                    </a:lnTo>
                    <a:lnTo>
                      <a:pt x="7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28080" y="1050840"/>
                <a:ext cx="2770920" cy="5705280"/>
              </a:xfrm>
              <a:custGeom>
                <a:avLst/>
                <a:gdLst/>
                <a:ahLst/>
                <a:rect l="l" t="t" r="r" b="b"/>
                <a:pathLst>
                  <a:path w="7996" h="12669">
                    <a:moveTo>
                      <a:pt x="7576" y="0"/>
                    </a:moveTo>
                    <a:lnTo>
                      <a:pt x="6618" y="302"/>
                    </a:lnTo>
                    <a:lnTo>
                      <a:pt x="5751" y="506"/>
                    </a:lnTo>
                    <a:lnTo>
                      <a:pt x="5032" y="574"/>
                    </a:lnTo>
                    <a:lnTo>
                      <a:pt x="3714" y="811"/>
                    </a:lnTo>
                    <a:lnTo>
                      <a:pt x="2306" y="1044"/>
                    </a:lnTo>
                    <a:lnTo>
                      <a:pt x="1587" y="1282"/>
                    </a:lnTo>
                    <a:lnTo>
                      <a:pt x="778" y="1622"/>
                    </a:lnTo>
                    <a:lnTo>
                      <a:pt x="270" y="1924"/>
                    </a:lnTo>
                    <a:lnTo>
                      <a:pt x="209" y="2735"/>
                    </a:lnTo>
                    <a:lnTo>
                      <a:pt x="209" y="2770"/>
                    </a:lnTo>
                    <a:lnTo>
                      <a:pt x="0" y="12669"/>
                    </a:lnTo>
                    <a:lnTo>
                      <a:pt x="358" y="12669"/>
                    </a:lnTo>
                    <a:lnTo>
                      <a:pt x="778" y="12501"/>
                    </a:lnTo>
                    <a:lnTo>
                      <a:pt x="3145" y="12096"/>
                    </a:lnTo>
                    <a:lnTo>
                      <a:pt x="5718" y="11858"/>
                    </a:lnTo>
                    <a:lnTo>
                      <a:pt x="7996" y="11791"/>
                    </a:lnTo>
                    <a:lnTo>
                      <a:pt x="7576" y="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13500000"/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88480" y="1689120"/>
                <a:ext cx="2833200" cy="5050080"/>
              </a:xfrm>
              <a:custGeom>
                <a:avLst/>
                <a:gdLst/>
                <a:ahLst/>
                <a:rect l="l" t="t" r="r" b="b"/>
                <a:pathLst>
                  <a:path w="8178" h="11216">
                    <a:moveTo>
                      <a:pt x="2936" y="10914"/>
                    </a:moveTo>
                    <a:lnTo>
                      <a:pt x="7908" y="11216"/>
                    </a:lnTo>
                    <a:lnTo>
                      <a:pt x="8178" y="506"/>
                    </a:lnTo>
                    <a:lnTo>
                      <a:pt x="687" y="0"/>
                    </a:lnTo>
                    <a:lnTo>
                      <a:pt x="0" y="8313"/>
                    </a:lnTo>
                    <a:lnTo>
                      <a:pt x="2936" y="109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8480" y="1689120"/>
                <a:ext cx="2833200" cy="5050080"/>
              </a:xfrm>
              <a:custGeom>
                <a:avLst/>
                <a:gdLst/>
                <a:ahLst/>
                <a:rect l="l" t="t" r="r" b="b"/>
                <a:pathLst>
                  <a:path w="8178" h="11216">
                    <a:moveTo>
                      <a:pt x="2936" y="10914"/>
                    </a:moveTo>
                    <a:lnTo>
                      <a:pt x="7908" y="11216"/>
                    </a:lnTo>
                    <a:lnTo>
                      <a:pt x="8178" y="506"/>
                    </a:lnTo>
                    <a:lnTo>
                      <a:pt x="687" y="0"/>
                    </a:lnTo>
                    <a:lnTo>
                      <a:pt x="0" y="8313"/>
                    </a:lnTo>
                    <a:lnTo>
                      <a:pt x="2936" y="109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7360" y="6497640"/>
                <a:ext cx="881280" cy="196920"/>
              </a:xfrm>
              <a:custGeom>
                <a:avLst/>
                <a:gdLst/>
                <a:ahLst/>
                <a:rect l="l" t="t" r="r" b="b"/>
                <a:pathLst>
                  <a:path w="2545" h="438">
                    <a:moveTo>
                      <a:pt x="2307" y="200"/>
                    </a:moveTo>
                    <a:lnTo>
                      <a:pt x="0" y="0"/>
                    </a:lnTo>
                    <a:lnTo>
                      <a:pt x="0" y="236"/>
                    </a:lnTo>
                    <a:lnTo>
                      <a:pt x="2545" y="438"/>
                    </a:lnTo>
                    <a:lnTo>
                      <a:pt x="2307" y="20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7360" y="6497640"/>
                <a:ext cx="881280" cy="196920"/>
              </a:xfrm>
              <a:custGeom>
                <a:avLst/>
                <a:gdLst/>
                <a:ahLst/>
                <a:rect l="l" t="t" r="r" b="b"/>
                <a:pathLst>
                  <a:path w="2545" h="438">
                    <a:moveTo>
                      <a:pt x="2307" y="200"/>
                    </a:moveTo>
                    <a:lnTo>
                      <a:pt x="0" y="0"/>
                    </a:lnTo>
                    <a:lnTo>
                      <a:pt x="0" y="236"/>
                    </a:lnTo>
                    <a:lnTo>
                      <a:pt x="2545" y="438"/>
                    </a:lnTo>
                    <a:lnTo>
                      <a:pt x="2307" y="2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6160" y="3332160"/>
                <a:ext cx="238680" cy="106560"/>
              </a:xfrm>
              <a:custGeom>
                <a:avLst/>
                <a:gdLst/>
                <a:ahLst/>
                <a:rect l="l" t="t" r="r" b="b"/>
                <a:pathLst>
                  <a:path w="690" h="238">
                    <a:moveTo>
                      <a:pt x="662" y="137"/>
                    </a:moveTo>
                    <a:lnTo>
                      <a:pt x="662" y="0"/>
                    </a:lnTo>
                    <a:lnTo>
                      <a:pt x="359" y="33"/>
                    </a:lnTo>
                    <a:lnTo>
                      <a:pt x="92" y="0"/>
                    </a:lnTo>
                    <a:lnTo>
                      <a:pt x="0" y="69"/>
                    </a:lnTo>
                    <a:lnTo>
                      <a:pt x="32" y="137"/>
                    </a:lnTo>
                    <a:lnTo>
                      <a:pt x="92" y="169"/>
                    </a:lnTo>
                    <a:lnTo>
                      <a:pt x="331" y="238"/>
                    </a:lnTo>
                    <a:lnTo>
                      <a:pt x="570" y="169"/>
                    </a:lnTo>
                    <a:lnTo>
                      <a:pt x="690" y="137"/>
                    </a:lnTo>
                    <a:lnTo>
                      <a:pt x="662" y="13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34480" y="4884480"/>
                <a:ext cx="239040" cy="121680"/>
              </a:xfrm>
              <a:custGeom>
                <a:avLst/>
                <a:gdLst/>
                <a:ahLst/>
                <a:rect l="l" t="t" r="r" b="b"/>
                <a:pathLst>
                  <a:path w="691" h="269">
                    <a:moveTo>
                      <a:pt x="660" y="134"/>
                    </a:moveTo>
                    <a:lnTo>
                      <a:pt x="660" y="0"/>
                    </a:lnTo>
                    <a:lnTo>
                      <a:pt x="360" y="33"/>
                    </a:lnTo>
                    <a:lnTo>
                      <a:pt x="90" y="0"/>
                    </a:lnTo>
                    <a:lnTo>
                      <a:pt x="0" y="65"/>
                    </a:lnTo>
                    <a:lnTo>
                      <a:pt x="33" y="169"/>
                    </a:lnTo>
                    <a:lnTo>
                      <a:pt x="90" y="202"/>
                    </a:lnTo>
                    <a:lnTo>
                      <a:pt x="331" y="269"/>
                    </a:lnTo>
                    <a:lnTo>
                      <a:pt x="571" y="202"/>
                    </a:lnTo>
                    <a:lnTo>
                      <a:pt x="691" y="134"/>
                    </a:lnTo>
                    <a:lnTo>
                      <a:pt x="660" y="134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25120" y="6025320"/>
                <a:ext cx="237960" cy="106200"/>
              </a:xfrm>
              <a:custGeom>
                <a:avLst/>
                <a:gdLst/>
                <a:ahLst/>
                <a:rect l="l" t="t" r="r" b="b"/>
                <a:pathLst>
                  <a:path w="688" h="238">
                    <a:moveTo>
                      <a:pt x="658" y="134"/>
                    </a:moveTo>
                    <a:lnTo>
                      <a:pt x="627" y="0"/>
                    </a:lnTo>
                    <a:lnTo>
                      <a:pt x="359" y="33"/>
                    </a:lnTo>
                    <a:lnTo>
                      <a:pt x="89" y="0"/>
                    </a:lnTo>
                    <a:lnTo>
                      <a:pt x="0" y="69"/>
                    </a:lnTo>
                    <a:lnTo>
                      <a:pt x="28" y="134"/>
                    </a:lnTo>
                    <a:lnTo>
                      <a:pt x="89" y="202"/>
                    </a:lnTo>
                    <a:lnTo>
                      <a:pt x="328" y="238"/>
                    </a:lnTo>
                    <a:lnTo>
                      <a:pt x="538" y="202"/>
                    </a:lnTo>
                    <a:lnTo>
                      <a:pt x="688" y="134"/>
                    </a:lnTo>
                    <a:lnTo>
                      <a:pt x="658" y="134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94680" y="6603840"/>
                <a:ext cx="1733400" cy="258480"/>
              </a:xfrm>
              <a:custGeom>
                <a:avLst/>
                <a:gdLst/>
                <a:ahLst/>
                <a:rect l="l" t="t" r="r" b="b"/>
                <a:pathLst>
                  <a:path w="5004" h="575">
                    <a:moveTo>
                      <a:pt x="5004" y="302"/>
                    </a:moveTo>
                    <a:lnTo>
                      <a:pt x="0" y="0"/>
                    </a:lnTo>
                    <a:lnTo>
                      <a:pt x="330" y="302"/>
                    </a:lnTo>
                    <a:lnTo>
                      <a:pt x="4494" y="575"/>
                    </a:lnTo>
                    <a:lnTo>
                      <a:pt x="4612" y="302"/>
                    </a:lnTo>
                    <a:lnTo>
                      <a:pt x="5004" y="302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94680" y="6603840"/>
                <a:ext cx="1733400" cy="258480"/>
              </a:xfrm>
              <a:custGeom>
                <a:avLst/>
                <a:gdLst/>
                <a:ahLst/>
                <a:rect l="l" t="t" r="r" b="b"/>
                <a:pathLst>
                  <a:path w="5004" h="575">
                    <a:moveTo>
                      <a:pt x="5004" y="302"/>
                    </a:moveTo>
                    <a:lnTo>
                      <a:pt x="0" y="0"/>
                    </a:lnTo>
                    <a:lnTo>
                      <a:pt x="330" y="302"/>
                    </a:lnTo>
                    <a:lnTo>
                      <a:pt x="4494" y="575"/>
                    </a:lnTo>
                    <a:lnTo>
                      <a:pt x="4612" y="302"/>
                    </a:lnTo>
                    <a:lnTo>
                      <a:pt x="5004" y="3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6560" y="5461920"/>
                <a:ext cx="840240" cy="1125360"/>
              </a:xfrm>
              <a:custGeom>
                <a:avLst/>
                <a:gdLst/>
                <a:ahLst/>
                <a:rect l="l" t="t" r="r" b="b"/>
                <a:pathLst>
                  <a:path w="2426" h="2500">
                    <a:moveTo>
                      <a:pt x="2426" y="2500"/>
                    </a:moveTo>
                    <a:lnTo>
                      <a:pt x="0" y="2300"/>
                    </a:lnTo>
                    <a:lnTo>
                      <a:pt x="210" y="0"/>
                    </a:lnTo>
                    <a:lnTo>
                      <a:pt x="2426" y="25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6560" y="5461920"/>
                <a:ext cx="840240" cy="1125360"/>
              </a:xfrm>
              <a:custGeom>
                <a:avLst/>
                <a:gdLst/>
                <a:ahLst/>
                <a:rect l="l" t="t" r="r" b="b"/>
                <a:pathLst>
                  <a:path w="2426" h="2500">
                    <a:moveTo>
                      <a:pt x="2426" y="2500"/>
                    </a:moveTo>
                    <a:lnTo>
                      <a:pt x="0" y="2300"/>
                    </a:lnTo>
                    <a:lnTo>
                      <a:pt x="210" y="0"/>
                    </a:lnTo>
                    <a:lnTo>
                      <a:pt x="2426" y="25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596760" y="2357640"/>
                <a:ext cx="228960" cy="106560"/>
              </a:xfrm>
              <a:custGeom>
                <a:avLst/>
                <a:gdLst/>
                <a:ahLst/>
                <a:rect l="l" t="t" r="r" b="b"/>
                <a:pathLst>
                  <a:path w="659" h="238">
                    <a:moveTo>
                      <a:pt x="627" y="137"/>
                    </a:moveTo>
                    <a:lnTo>
                      <a:pt x="627" y="0"/>
                    </a:lnTo>
                    <a:lnTo>
                      <a:pt x="328" y="37"/>
                    </a:lnTo>
                    <a:lnTo>
                      <a:pt x="90" y="0"/>
                    </a:lnTo>
                    <a:lnTo>
                      <a:pt x="0" y="69"/>
                    </a:lnTo>
                    <a:lnTo>
                      <a:pt x="29" y="137"/>
                    </a:lnTo>
                    <a:lnTo>
                      <a:pt x="90" y="169"/>
                    </a:lnTo>
                    <a:lnTo>
                      <a:pt x="299" y="238"/>
                    </a:lnTo>
                    <a:lnTo>
                      <a:pt x="537" y="169"/>
                    </a:lnTo>
                    <a:lnTo>
                      <a:pt x="659" y="137"/>
                    </a:lnTo>
                    <a:lnTo>
                      <a:pt x="627" y="13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06440" y="7165800"/>
                <a:ext cx="736200" cy="927360"/>
              </a:xfrm>
              <a:custGeom>
                <a:avLst/>
                <a:gdLst/>
                <a:ahLst/>
                <a:rect l="l" t="t" r="r" b="b"/>
                <a:pathLst>
                  <a:path w="2125" h="2059">
                    <a:moveTo>
                      <a:pt x="2125" y="2059"/>
                    </a:moveTo>
                    <a:lnTo>
                      <a:pt x="1677" y="1317"/>
                    </a:lnTo>
                    <a:lnTo>
                      <a:pt x="388" y="0"/>
                    </a:lnTo>
                    <a:lnTo>
                      <a:pt x="0" y="373"/>
                    </a:lnTo>
                    <a:lnTo>
                      <a:pt x="1348" y="1655"/>
                    </a:lnTo>
                    <a:lnTo>
                      <a:pt x="2125" y="205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71080" y="6984000"/>
                <a:ext cx="269280" cy="349920"/>
              </a:xfrm>
              <a:custGeom>
                <a:avLst/>
                <a:gdLst/>
                <a:ahLst/>
                <a:rect l="l" t="t" r="r" b="b"/>
                <a:pathLst>
                  <a:path w="779" h="778">
                    <a:moveTo>
                      <a:pt x="779" y="405"/>
                    </a:moveTo>
                    <a:lnTo>
                      <a:pt x="359" y="0"/>
                    </a:lnTo>
                    <a:lnTo>
                      <a:pt x="0" y="373"/>
                    </a:lnTo>
                    <a:lnTo>
                      <a:pt x="420" y="778"/>
                    </a:lnTo>
                    <a:lnTo>
                      <a:pt x="779" y="40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30960" y="5523120"/>
                <a:ext cx="1265040" cy="1627920"/>
              </a:xfrm>
              <a:custGeom>
                <a:avLst/>
                <a:gdLst/>
                <a:ahLst/>
                <a:rect l="l" t="t" r="r" b="b"/>
                <a:pathLst>
                  <a:path w="3652" h="3617">
                    <a:moveTo>
                      <a:pt x="3652" y="3211"/>
                    </a:moveTo>
                    <a:lnTo>
                      <a:pt x="329" y="0"/>
                    </a:lnTo>
                    <a:lnTo>
                      <a:pt x="0" y="269"/>
                    </a:lnTo>
                    <a:lnTo>
                      <a:pt x="3293" y="3617"/>
                    </a:lnTo>
                    <a:lnTo>
                      <a:pt x="3652" y="3244"/>
                    </a:lnTo>
                    <a:lnTo>
                      <a:pt x="3652" y="3211"/>
                    </a:lnTo>
                    <a:close/>
                  </a:path>
                </a:pathLst>
              </a:custGeom>
              <a:solidFill>
                <a:srgbClr val="ff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30960" y="5523120"/>
                <a:ext cx="1265040" cy="1627920"/>
              </a:xfrm>
              <a:custGeom>
                <a:avLst/>
                <a:gdLst/>
                <a:ahLst/>
                <a:rect l="l" t="t" r="r" b="b"/>
                <a:pathLst>
                  <a:path w="3652" h="3617">
                    <a:moveTo>
                      <a:pt x="3652" y="3211"/>
                    </a:moveTo>
                    <a:lnTo>
                      <a:pt x="329" y="0"/>
                    </a:lnTo>
                    <a:lnTo>
                      <a:pt x="0" y="269"/>
                    </a:lnTo>
                    <a:lnTo>
                      <a:pt x="3293" y="3617"/>
                    </a:lnTo>
                    <a:lnTo>
                      <a:pt x="3652" y="3244"/>
                    </a:lnTo>
                    <a:lnTo>
                      <a:pt x="3652" y="32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9440" y="5507640"/>
                <a:ext cx="124920" cy="136800"/>
              </a:xfrm>
              <a:custGeom>
                <a:avLst/>
                <a:gdLst/>
                <a:ahLst/>
                <a:rect l="l" t="t" r="r" b="b"/>
                <a:pathLst>
                  <a:path w="360" h="302">
                    <a:moveTo>
                      <a:pt x="360" y="33"/>
                    </a:moveTo>
                    <a:lnTo>
                      <a:pt x="210" y="0"/>
                    </a:lnTo>
                    <a:lnTo>
                      <a:pt x="0" y="169"/>
                    </a:lnTo>
                    <a:lnTo>
                      <a:pt x="31" y="302"/>
                    </a:lnTo>
                    <a:lnTo>
                      <a:pt x="36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4720" y="5309640"/>
                <a:ext cx="207720" cy="274680"/>
              </a:xfrm>
              <a:custGeom>
                <a:avLst/>
                <a:gdLst/>
                <a:ahLst/>
                <a:rect l="l" t="t" r="r" b="b"/>
                <a:pathLst>
                  <a:path w="601" h="609">
                    <a:moveTo>
                      <a:pt x="601" y="440"/>
                    </a:moveTo>
                    <a:lnTo>
                      <a:pt x="150" y="0"/>
                    </a:lnTo>
                    <a:lnTo>
                      <a:pt x="0" y="135"/>
                    </a:lnTo>
                    <a:lnTo>
                      <a:pt x="451" y="609"/>
                    </a:lnTo>
                    <a:lnTo>
                      <a:pt x="601" y="4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0200" y="7669080"/>
                <a:ext cx="124920" cy="151200"/>
              </a:xfrm>
              <a:custGeom>
                <a:avLst/>
                <a:gdLst/>
                <a:ahLst/>
                <a:rect l="l" t="t" r="r" b="b"/>
                <a:pathLst>
                  <a:path w="360" h="337">
                    <a:moveTo>
                      <a:pt x="330" y="0"/>
                    </a:moveTo>
                    <a:lnTo>
                      <a:pt x="0" y="305"/>
                    </a:lnTo>
                    <a:lnTo>
                      <a:pt x="60" y="337"/>
                    </a:lnTo>
                    <a:lnTo>
                      <a:pt x="360" y="32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01960" y="8017560"/>
                <a:ext cx="40680" cy="75600"/>
              </a:xfrm>
              <a:custGeom>
                <a:avLst/>
                <a:gdLst/>
                <a:ahLst/>
                <a:rect l="l" t="t" r="r" b="b"/>
                <a:pathLst>
                  <a:path w="118" h="168">
                    <a:moveTo>
                      <a:pt x="60" y="68"/>
                    </a:moveTo>
                    <a:lnTo>
                      <a:pt x="0" y="137"/>
                    </a:lnTo>
                    <a:lnTo>
                      <a:pt x="118" y="168"/>
                    </a:lnTo>
                    <a:lnTo>
                      <a:pt x="60" y="0"/>
                    </a:lnTo>
                    <a:lnTo>
                      <a:pt x="6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92520" y="5614560"/>
                <a:ext cx="393840" cy="501480"/>
              </a:xfrm>
              <a:custGeom>
                <a:avLst/>
                <a:gdLst/>
                <a:ahLst/>
                <a:rect l="l" t="t" r="r" b="b"/>
                <a:pathLst>
                  <a:path w="1139" h="1113">
                    <a:moveTo>
                      <a:pt x="1139" y="980"/>
                    </a:moveTo>
                    <a:lnTo>
                      <a:pt x="150" y="0"/>
                    </a:lnTo>
                    <a:lnTo>
                      <a:pt x="0" y="101"/>
                    </a:lnTo>
                    <a:lnTo>
                      <a:pt x="989" y="1113"/>
                    </a:lnTo>
                    <a:lnTo>
                      <a:pt x="1139" y="98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659600" y="2101680"/>
              <a:ext cx="3871080" cy="4309200"/>
              <a:chOff x="1659600" y="2101680"/>
              <a:chExt cx="3871080" cy="4309200"/>
            </a:xfrm>
          </p:grpSpPr>
          <p:sp>
            <p:nvSpPr>
              <p:cNvPr id="131" name=""/>
              <p:cNvSpPr/>
              <p:nvPr/>
            </p:nvSpPr>
            <p:spPr>
              <a:xfrm>
                <a:off x="4824360" y="2101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آ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50520" y="2101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ث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33080" y="2101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41800" y="2101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59600" y="2101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24360" y="283500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41800" y="283500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50520" y="283500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59600" y="283500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ر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33080" y="283500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خ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24360" y="3568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ز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50520" y="3568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3080" y="3568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41800" y="3568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ش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59600" y="3568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24360" y="4302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41800" y="4302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50520" y="4302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59600" y="4302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ف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33080" y="4302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ظ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24360" y="5035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50520" y="5035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3080" y="5035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41800" y="5035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ل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59600" y="503568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33080" y="5769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48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ها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50520" y="5769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41800" y="5769360"/>
                <a:ext cx="706320" cy="64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flipH="1">
            <a:off x="331560" y="5991120"/>
            <a:ext cx="2322360" cy="283680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49360" y="525600"/>
            <a:ext cx="5400720" cy="876240"/>
            <a:chOff x="549360" y="525600"/>
            <a:chExt cx="5400720" cy="8762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549360" y="525240"/>
              <a:ext cx="54007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94360" y="735840"/>
              <a:ext cx="4185360" cy="420480"/>
            </a:xfrm>
            <a:prstGeom prst="rect">
              <a:avLst/>
            </a:prstGeom>
            <a:solidFill>
              <a:srgbClr val="ffffff">
                <a:alpha val="9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كمل الحروف الممدودة بالأل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83560" cy="9144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047600"/>
            <a:ext cx="5861160" cy="6910560"/>
          </a:xfrm>
          <a:custGeom>
            <a:avLst/>
            <a:gdLst>
              <a:gd name="textAreaLeft" fmla="*/ 285840 w 5861160"/>
              <a:gd name="textAreaRight" fmla="*/ 5575320 w 5861160"/>
              <a:gd name="textAreaTop" fmla="*/ 285840 h 6910560"/>
              <a:gd name="textAreaBottom" fmla="*/ 6624720 h 6910560"/>
            </a:gdLst>
            <a:ahLst/>
            <a:rect l="textAreaLeft" t="textAreaTop" r="textAreaRight" b="textAreaBottom"/>
            <a:pathLst>
              <a:path w="21600" h="25467">
                <a:moveTo>
                  <a:pt x="3600" y="0"/>
                </a:moveTo>
                <a:arcTo wR="3600" hR="3600" stAng="16200000" swAng="-5400000"/>
                <a:lnTo>
                  <a:pt x="0" y="21867"/>
                </a:lnTo>
                <a:arcTo wR="3600" hR="3600" stAng="10800000" swAng="-5400000"/>
                <a:lnTo>
                  <a:pt x="18000" y="254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flipH="1">
            <a:off x="209520" y="6386400"/>
            <a:ext cx="2765520" cy="261792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907920" y="663120"/>
            <a:ext cx="5042160" cy="871560"/>
            <a:chOff x="907920" y="663120"/>
            <a:chExt cx="5042160" cy="87156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907920" y="662760"/>
              <a:ext cx="50421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90280" y="872640"/>
              <a:ext cx="3907440" cy="418320"/>
            </a:xfrm>
            <a:prstGeom prst="rect">
              <a:avLst/>
            </a:prstGeom>
            <a:solidFill>
              <a:srgbClr val="ffffff">
                <a:alpha val="9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كمل الحروف الممدودة بالوا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30200" y="1255680"/>
            <a:ext cx="798480" cy="1467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20760" y="4397400"/>
            <a:ext cx="681120" cy="1257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057640" y="6281640"/>
            <a:ext cx="970200" cy="177984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311120" y="2093760"/>
            <a:ext cx="4646880" cy="4292640"/>
            <a:chOff x="1311120" y="2093760"/>
            <a:chExt cx="4646880" cy="4292640"/>
          </a:xfrm>
        </p:grpSpPr>
        <p:grpSp>
          <p:nvGrpSpPr>
            <p:cNvPr id="173" name=""/>
            <p:cNvGrpSpPr/>
            <p:nvPr/>
          </p:nvGrpSpPr>
          <p:grpSpPr>
            <a:xfrm>
              <a:off x="1311120" y="2093760"/>
              <a:ext cx="4646880" cy="4292280"/>
              <a:chOff x="1311120" y="2093760"/>
              <a:chExt cx="4646880" cy="4292280"/>
            </a:xfrm>
          </p:grpSpPr>
          <p:sp>
            <p:nvSpPr>
              <p:cNvPr id="174" name=""/>
              <p:cNvSpPr/>
              <p:nvPr/>
            </p:nvSpPr>
            <p:spPr>
              <a:xfrm>
                <a:off x="5109840" y="209376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أ</a:t>
                </a: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60800" y="209376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60160" y="209376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10480" y="209376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ت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311120" y="209376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09840" y="28242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10480" y="28242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60800" y="28242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11120" y="28242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ر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60160" y="28242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خ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09840" y="35550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ز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60800" y="35550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0160" y="35550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0480" y="35550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ش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1120" y="35550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09840" y="42858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10480" y="42858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60800" y="42858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1120" y="42858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ف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60160" y="428580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ظ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09840" y="50162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60800" y="50162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160160" y="50162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10480" y="50162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ل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11120" y="50162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160160" y="57470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60800" y="57470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AE" sz="36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ي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10480" y="5747040"/>
                <a:ext cx="848160" cy="6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311120" y="2093760"/>
              <a:ext cx="4646880" cy="628200"/>
              <a:chOff x="1311120" y="2093760"/>
              <a:chExt cx="4646880" cy="62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5137920" y="20937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81040" y="20937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24520" y="209376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11120" y="20937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67640" y="209376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311120" y="2826360"/>
              <a:ext cx="4646880" cy="628200"/>
              <a:chOff x="1311120" y="2826360"/>
              <a:chExt cx="4646880" cy="628200"/>
            </a:xfrm>
          </p:grpSpPr>
          <p:sp>
            <p:nvSpPr>
              <p:cNvPr id="209" name=""/>
              <p:cNvSpPr/>
              <p:nvPr/>
            </p:nvSpPr>
            <p:spPr>
              <a:xfrm>
                <a:off x="5137920" y="28263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81040" y="28263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24520" y="282636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11120" y="282636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67640" y="282636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311120" y="3559320"/>
              <a:ext cx="4646880" cy="627840"/>
              <a:chOff x="1311120" y="3559320"/>
              <a:chExt cx="4646880" cy="627840"/>
            </a:xfrm>
          </p:grpSpPr>
          <p:sp>
            <p:nvSpPr>
              <p:cNvPr id="215" name=""/>
              <p:cNvSpPr/>
              <p:nvPr/>
            </p:nvSpPr>
            <p:spPr>
              <a:xfrm>
                <a:off x="5137920" y="355932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81040" y="355932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24520" y="3559320"/>
                <a:ext cx="81972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11120" y="355932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67640" y="3559320"/>
                <a:ext cx="81972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11120" y="4292280"/>
              <a:ext cx="4646880" cy="627840"/>
              <a:chOff x="1311120" y="4292280"/>
              <a:chExt cx="4646880" cy="627840"/>
            </a:xfrm>
          </p:grpSpPr>
          <p:sp>
            <p:nvSpPr>
              <p:cNvPr id="221" name=""/>
              <p:cNvSpPr/>
              <p:nvPr/>
            </p:nvSpPr>
            <p:spPr>
              <a:xfrm>
                <a:off x="5137920" y="429228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181040" y="429228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24520" y="4292280"/>
                <a:ext cx="81972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11120" y="4292280"/>
                <a:ext cx="82008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67640" y="4292280"/>
                <a:ext cx="819720" cy="627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311120" y="5025240"/>
              <a:ext cx="4646880" cy="628200"/>
              <a:chOff x="1311120" y="5025240"/>
              <a:chExt cx="4646880" cy="628200"/>
            </a:xfrm>
          </p:grpSpPr>
          <p:sp>
            <p:nvSpPr>
              <p:cNvPr id="227" name=""/>
              <p:cNvSpPr/>
              <p:nvPr/>
            </p:nvSpPr>
            <p:spPr>
              <a:xfrm>
                <a:off x="5137920" y="502524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181040" y="502524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24520" y="502524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11120" y="5025240"/>
                <a:ext cx="82008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67640" y="5025240"/>
                <a:ext cx="819720" cy="62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181040" y="5758200"/>
              <a:ext cx="820080" cy="62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24160" y="5758200"/>
              <a:ext cx="820080" cy="62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67640" y="5758200"/>
              <a:ext cx="820080" cy="62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110520" y="735480"/>
              <a:ext cx="6305040" cy="8277480"/>
              <a:chOff x="110520" y="735480"/>
              <a:chExt cx="6305040" cy="8277480"/>
            </a:xfrm>
          </p:grpSpPr>
          <p:sp>
            <p:nvSpPr>
              <p:cNvPr id="238" name=""/>
              <p:cNvSpPr/>
              <p:nvPr/>
            </p:nvSpPr>
            <p:spPr>
              <a:xfrm>
                <a:off x="552960" y="1155600"/>
                <a:ext cx="5862600" cy="6936840"/>
              </a:xfrm>
              <a:custGeom>
                <a:avLst/>
                <a:gdLst>
                  <a:gd name="textAreaLeft" fmla="*/ 286200 w 5862600"/>
                  <a:gd name="textAreaRight" fmla="*/ 5576400 w 5862600"/>
                  <a:gd name="textAreaTop" fmla="*/ 286200 h 6936840"/>
                  <a:gd name="textAreaBottom" fmla="*/ 6650640 h 6936840"/>
                </a:gdLst>
                <a:ahLst/>
                <a:rect l="textAreaLeft" t="textAreaTop" r="textAreaRight" b="textAreaBottom"/>
                <a:pathLst>
                  <a:path w="21600" h="25558">
                    <a:moveTo>
                      <a:pt x="3600" y="0"/>
                    </a:moveTo>
                    <a:arcTo wR="3600" hR="3600" stAng="16200000" swAng="-5400000"/>
                    <a:lnTo>
                      <a:pt x="0" y="21958"/>
                    </a:lnTo>
                    <a:arcTo wR="3600" hR="3600" stAng="10800000" swAng="-5400000"/>
                    <a:lnTo>
                      <a:pt x="18000" y="255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520" y="6412320"/>
                <a:ext cx="2765160" cy="2600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0" name=""/>
              <p:cNvGrpSpPr/>
              <p:nvPr/>
            </p:nvGrpSpPr>
            <p:grpSpPr>
              <a:xfrm>
                <a:off x="1216440" y="1786320"/>
                <a:ext cx="4756320" cy="5045040"/>
                <a:chOff x="1216440" y="1786320"/>
                <a:chExt cx="4756320" cy="5045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104800" y="17863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88440" y="17863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132440" y="17863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60440" y="17863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16440" y="17863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04800" y="26449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160440" y="26449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188440" y="26449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216440" y="26449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132440" y="26449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104800" y="35035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ز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188440" y="35035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ص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132440" y="35035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60440" y="35035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16440" y="350352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104800" y="43624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160440" y="43624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188440" y="43624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216440" y="43624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32440" y="43624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04800" y="52210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188440" y="52210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32440" y="52210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160440" y="52210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216440" y="522108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32440" y="608004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188440" y="608004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AE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ي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160440" y="6080040"/>
                  <a:ext cx="867960" cy="75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437840" y="735480"/>
                <a:ext cx="4424400" cy="875520"/>
                <a:chOff x="1437840" y="735480"/>
                <a:chExt cx="4424400" cy="875520"/>
              </a:xfrm>
            </p:grpSpPr>
            <p:pic>
              <p:nvPicPr>
                <p:cNvPr id="270" name="" descr=""/>
                <p:cNvPicPr/>
                <p:nvPr/>
              </p:nvPicPr>
              <p:blipFill>
                <a:blip r:embed="rId3"/>
                <a:stretch/>
              </p:blipFill>
              <p:spPr>
                <a:xfrm rot="10800000">
                  <a:off x="1437840" y="735120"/>
                  <a:ext cx="4424400" cy="87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>
                  <a:off x="2212200" y="945360"/>
                  <a:ext cx="3429000" cy="420120"/>
                </a:xfrm>
                <a:prstGeom prst="rect">
                  <a:avLst/>
                </a:prstGeom>
                <a:solidFill>
                  <a:srgbClr val="ffffff">
                    <a:alpha val="95000"/>
                  </a:srgbClr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كمل حروف الممدودة بالياء</a:t>
                  </a:r>
                  <a:r>
                    <a:rPr b="1" lang="ar-SA" sz="26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214200" y="0"/>
              <a:ext cx="66438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"/>
            <p:cNvGrpSpPr/>
            <p:nvPr/>
          </p:nvGrpSpPr>
          <p:grpSpPr>
            <a:xfrm>
              <a:off x="0" y="315000"/>
              <a:ext cx="6122880" cy="8547840"/>
              <a:chOff x="0" y="315000"/>
              <a:chExt cx="6122880" cy="85478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892960" y="315000"/>
                <a:ext cx="3229920" cy="8270640"/>
                <a:chOff x="2892960" y="315000"/>
                <a:chExt cx="3229920" cy="8270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489640" y="31500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489640" y="91044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ب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489640" y="150624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489640" y="210168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ث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489640" y="2698200"/>
                  <a:ext cx="633240" cy="51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489640" y="3293640"/>
                  <a:ext cx="633240" cy="51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489640" y="388944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خ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62160" y="48528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892960" y="31500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892960" y="91044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892960" y="150624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892960" y="210168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892960" y="2698200"/>
                  <a:ext cx="938520" cy="51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892960" y="3293640"/>
                  <a:ext cx="938520" cy="510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92960" y="388944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892960" y="448524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92960" y="508068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892960" y="5676480"/>
                  <a:ext cx="93852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489640" y="448524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89640" y="508068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ذ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89640" y="5676480"/>
                  <a:ext cx="633240" cy="510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962160" y="99540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62160" y="1591560"/>
                  <a:ext cx="1221840" cy="254520"/>
                </a:xfrm>
                <a:prstGeom prst="leftArrow">
                  <a:avLst>
                    <a:gd name="adj1" fmla="val 50000"/>
                    <a:gd name="adj2" fmla="val 120014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62160" y="218736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962160" y="278316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962160" y="337860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962160" y="405936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962160" y="4655520"/>
                  <a:ext cx="1221840" cy="254520"/>
                </a:xfrm>
                <a:prstGeom prst="leftArrow">
                  <a:avLst>
                    <a:gd name="adj1" fmla="val 50000"/>
                    <a:gd name="adj2" fmla="val 120014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962160" y="525132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962160" y="5846760"/>
                  <a:ext cx="1221840" cy="255240"/>
                </a:xfrm>
                <a:prstGeom prst="leftArrow">
                  <a:avLst>
                    <a:gd name="adj1" fmla="val 50000"/>
                    <a:gd name="adj2" fmla="val 119676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2892960" y="6288480"/>
                  <a:ext cx="3214080" cy="2297160"/>
                  <a:chOff x="2892960" y="6288480"/>
                  <a:chExt cx="3214080" cy="22971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5477400" y="6288480"/>
                    <a:ext cx="6296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زَ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477400" y="6883920"/>
                    <a:ext cx="6296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سَ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77400" y="7479720"/>
                    <a:ext cx="6296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َ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77400" y="8075160"/>
                    <a:ext cx="6296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صَ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957120" y="6458760"/>
                    <a:ext cx="1216080" cy="255240"/>
                  </a:xfrm>
                  <a:prstGeom prst="leftArrow">
                    <a:avLst>
                      <a:gd name="adj1" fmla="val 50000"/>
                      <a:gd name="adj2" fmla="val 119111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892960" y="6288480"/>
                    <a:ext cx="9338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892960" y="6883920"/>
                    <a:ext cx="9338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892960" y="7479720"/>
                    <a:ext cx="9338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892960" y="8075160"/>
                    <a:ext cx="933840" cy="510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957120" y="6968880"/>
                    <a:ext cx="1216080" cy="255240"/>
                  </a:xfrm>
                  <a:prstGeom prst="leftArrow">
                    <a:avLst>
                      <a:gd name="adj1" fmla="val 50000"/>
                      <a:gd name="adj2" fmla="val 119111"/>
                    </a:avLst>
                  </a:pr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957120" y="7565040"/>
                    <a:ext cx="1216080" cy="254520"/>
                  </a:xfrm>
                  <a:prstGeom prst="leftArrow">
                    <a:avLst>
                      <a:gd name="adj1" fmla="val 50000"/>
                      <a:gd name="adj2" fmla="val 119448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957120" y="8160840"/>
                    <a:ext cx="1216080" cy="255240"/>
                  </a:xfrm>
                  <a:prstGeom prst="leftArrow">
                    <a:avLst>
                      <a:gd name="adj1" fmla="val 50000"/>
                      <a:gd name="adj2" fmla="val 119111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0" y="1050840"/>
                <a:ext cx="2892960" cy="7812000"/>
                <a:chOff x="0" y="1050840"/>
                <a:chExt cx="2892960" cy="7812000"/>
              </a:xfrm>
            </p:grpSpPr>
            <p:pic>
              <p:nvPicPr>
                <p:cNvPr id="320" name="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0" y="5675400"/>
                  <a:ext cx="2892960" cy="3187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21" name=""/>
                <p:cNvGrpSpPr/>
                <p:nvPr/>
              </p:nvGrpSpPr>
              <p:grpSpPr>
                <a:xfrm>
                  <a:off x="321120" y="1050840"/>
                  <a:ext cx="2143080" cy="2942640"/>
                  <a:chOff x="321120" y="1050840"/>
                  <a:chExt cx="2143080" cy="29426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321120" y="1050840"/>
                    <a:ext cx="2143080" cy="2942640"/>
                  </a:xfrm>
                  <a:prstGeom prst="cloudCallout">
                    <a:avLst>
                      <a:gd name="adj1" fmla="val 8583"/>
                      <a:gd name="adj2" fmla="val 95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ff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21120" y="1786320"/>
                    <a:ext cx="2143080" cy="189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وازن بين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فتح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والمد بالألف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6" name=""/>
            <p:cNvGrpSpPr/>
            <p:nvPr/>
          </p:nvGrpSpPr>
          <p:grpSpPr>
            <a:xfrm>
              <a:off x="552960" y="209880"/>
              <a:ext cx="6305040" cy="8547480"/>
              <a:chOff x="552960" y="209880"/>
              <a:chExt cx="6305040" cy="85474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552960" y="209880"/>
                <a:ext cx="3339360" cy="8303400"/>
                <a:chOff x="552960" y="209880"/>
                <a:chExt cx="3339360" cy="83034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234600" y="20988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ض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234600" y="80676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ط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234600" y="140400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ظ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6280" y="20988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66280" y="80676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66280" y="140400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6280" y="200124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66280" y="25981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66280" y="31953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234600" y="200124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234600" y="25981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غ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234600" y="31953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665360" y="2948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665360" y="89172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665360" y="157428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665360" y="217188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665360" y="276912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665360" y="33663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242160" y="379008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42160" y="438732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َ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242160" y="49845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ل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3840" y="379008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3840" y="438732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73840" y="49845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73840" y="558180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242160" y="558180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م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672560" y="38754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672560" y="44726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672560" y="51548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672560" y="575244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21280" y="621000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21280" y="680688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ـَ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221280" y="74041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2960" y="621000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52960" y="680688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2960" y="74041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52960" y="80013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221280" y="80013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51680" y="62949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51680" y="6892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51680" y="75744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651680" y="817200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81960" y="1050480"/>
                <a:ext cx="2876040" cy="7706880"/>
                <a:chOff x="3981960" y="1050480"/>
                <a:chExt cx="2876040" cy="77068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313520" y="1050480"/>
                  <a:ext cx="2212560" cy="2942640"/>
                </a:xfrm>
                <a:prstGeom prst="cloudCallout">
                  <a:avLst>
                    <a:gd name="adj1" fmla="val -1777"/>
                    <a:gd name="adj2" fmla="val 9242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13520" y="1785960"/>
                  <a:ext cx="2212560" cy="18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وازن بين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الفتحة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المد بالألف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81960" y="5569920"/>
                  <a:ext cx="2876040" cy="3187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6858000" cy="9142920"/>
            <a:chOff x="0" y="0"/>
            <a:chExt cx="6858000" cy="914292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07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442440" y="729720"/>
              <a:ext cx="6099480" cy="8413200"/>
              <a:chOff x="442440" y="729720"/>
              <a:chExt cx="6099480" cy="84132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207600" y="729720"/>
                <a:ext cx="3334320" cy="8207280"/>
                <a:chOff x="3207600" y="729720"/>
                <a:chExt cx="3334320" cy="82072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888160" y="72972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3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أ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88160" y="132048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ب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888160" y="191160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ت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88160" y="250272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ث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888160" y="3094560"/>
                  <a:ext cx="65376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ج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888160" y="3685680"/>
                  <a:ext cx="65376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ح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88160" y="427680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خ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11000" y="89856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207600" y="72972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207600" y="132048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207600" y="191160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07600" y="250272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207600" y="3094560"/>
                  <a:ext cx="96912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207600" y="3685680"/>
                  <a:ext cx="969120" cy="50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207600" y="427680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207600" y="486792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207600" y="545904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207600" y="6050160"/>
                  <a:ext cx="96912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888160" y="486792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د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888160" y="545904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ذ</a:t>
                  </a: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888160" y="6050160"/>
                  <a:ext cx="653760" cy="50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ر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311000" y="140508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311000" y="1996560"/>
                  <a:ext cx="1261440" cy="252720"/>
                </a:xfrm>
                <a:prstGeom prst="leftArrow">
                  <a:avLst>
                    <a:gd name="adj1" fmla="val 50000"/>
                    <a:gd name="adj2" fmla="val 124786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311000" y="258768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311000" y="317880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11000" y="376992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311000" y="444528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311000" y="5037120"/>
                  <a:ext cx="1261440" cy="252720"/>
                </a:xfrm>
                <a:prstGeom prst="leftArrow">
                  <a:avLst>
                    <a:gd name="adj1" fmla="val 50000"/>
                    <a:gd name="adj2" fmla="val 124786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311000" y="562824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311000" y="6219000"/>
                  <a:ext cx="1261440" cy="253080"/>
                </a:xfrm>
                <a:prstGeom prst="leftArrow">
                  <a:avLst>
                    <a:gd name="adj1" fmla="val 50000"/>
                    <a:gd name="adj2" fmla="val 124609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3207600" y="6657480"/>
                  <a:ext cx="3318480" cy="2279520"/>
                  <a:chOff x="3207600" y="6657480"/>
                  <a:chExt cx="3318480" cy="2279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5875920" y="6657480"/>
                    <a:ext cx="65016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زُ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875920" y="7248240"/>
                    <a:ext cx="65016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سُ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875920" y="7839360"/>
                    <a:ext cx="65016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شُ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875920" y="8430480"/>
                    <a:ext cx="65016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صُ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06320" y="6826320"/>
                    <a:ext cx="1255320" cy="253080"/>
                  </a:xfrm>
                  <a:prstGeom prst="leftArrow">
                    <a:avLst>
                      <a:gd name="adj1" fmla="val 50000"/>
                      <a:gd name="adj2" fmla="val 124004"/>
                    </a:avLst>
                  </a:pr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207600" y="6657480"/>
                    <a:ext cx="96408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207600" y="7248240"/>
                    <a:ext cx="96408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07600" y="7839360"/>
                    <a:ext cx="96408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07600" y="8430480"/>
                    <a:ext cx="964080" cy="506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........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306320" y="7332840"/>
                    <a:ext cx="1255320" cy="253080"/>
                  </a:xfrm>
                  <a:prstGeom prst="leftArrow">
                    <a:avLst>
                      <a:gd name="adj1" fmla="val 50000"/>
                      <a:gd name="adj2" fmla="val 124004"/>
                    </a:avLst>
                  </a:pr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4306320" y="7924320"/>
                    <a:ext cx="1255320" cy="252720"/>
                  </a:xfrm>
                  <a:prstGeom prst="leftArrow">
                    <a:avLst>
                      <a:gd name="adj1" fmla="val 50000"/>
                      <a:gd name="adj2" fmla="val 124181"/>
                    </a:avLst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306320" y="8515440"/>
                    <a:ext cx="1255320" cy="253080"/>
                  </a:xfrm>
                  <a:prstGeom prst="leftArrow">
                    <a:avLst>
                      <a:gd name="adj1" fmla="val 50000"/>
                      <a:gd name="adj2" fmla="val 124004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442440" y="1146600"/>
                <a:ext cx="2595600" cy="7996320"/>
                <a:chOff x="442440" y="1146600"/>
                <a:chExt cx="2595600" cy="7996320"/>
              </a:xfrm>
            </p:grpSpPr>
            <p:grpSp>
              <p:nvGrpSpPr>
                <p:cNvPr id="422" name=""/>
                <p:cNvGrpSpPr/>
                <p:nvPr/>
              </p:nvGrpSpPr>
              <p:grpSpPr>
                <a:xfrm>
                  <a:off x="442440" y="1146600"/>
                  <a:ext cx="2212200" cy="2920320"/>
                  <a:chOff x="442440" y="1146600"/>
                  <a:chExt cx="2212200" cy="292032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>
                    <a:off x="442440" y="1146600"/>
                    <a:ext cx="2212200" cy="2920320"/>
                  </a:xfrm>
                  <a:prstGeom prst="cloudCallout">
                    <a:avLst>
                      <a:gd name="adj1" fmla="val 8583"/>
                      <a:gd name="adj2" fmla="val 95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42440" y="1876680"/>
                    <a:ext cx="2212200" cy="187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وازن بين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ضم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والمد بالواو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42440" y="5735520"/>
                  <a:ext cx="2595600" cy="3407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2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442440" y="525240"/>
              <a:ext cx="6305040" cy="8478720"/>
              <a:chOff x="442440" y="525240"/>
              <a:chExt cx="6305040" cy="84787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442440" y="525240"/>
                <a:ext cx="3339360" cy="8303400"/>
                <a:chOff x="442440" y="525240"/>
                <a:chExt cx="3339360" cy="83034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24080" y="5252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ض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24080" y="112212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ط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124080" y="17193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ظ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5760" y="5252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5760" y="112212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55760" y="17193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55760" y="231660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55760" y="291348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55760" y="35107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124080" y="231660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ع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24080" y="291348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غ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24080" y="35107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ف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554840" y="610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554840" y="120708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554840" y="188964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554840" y="248724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554840" y="308448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554840" y="368172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131640" y="41054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131640" y="470268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ك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131640" y="52999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ل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63320" y="41054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63320" y="470268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63320" y="52999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63320" y="589716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131640" y="589716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م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562040" y="41907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562040" y="47880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562040" y="547020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562040" y="606780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110760" y="652536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ن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110760" y="7122240"/>
                  <a:ext cx="65016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هـُ</a:t>
                  </a: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10760" y="771948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و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2440" y="652536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42440" y="7122240"/>
                  <a:ext cx="964080" cy="51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42440" y="771948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42440" y="8316720"/>
                  <a:ext cx="96408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......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110760" y="8316720"/>
                  <a:ext cx="650160" cy="511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AE" sz="28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يُ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541160" y="661032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541160" y="72075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41160" y="7889760"/>
                  <a:ext cx="1255320" cy="255960"/>
                </a:xfrm>
                <a:prstGeom prst="leftArrow">
                  <a:avLst>
                    <a:gd name="adj1" fmla="val 50000"/>
                    <a:gd name="adj2" fmla="val 122609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541160" y="8487360"/>
                  <a:ext cx="1255320" cy="255240"/>
                </a:xfrm>
                <a:prstGeom prst="leftArrow">
                  <a:avLst>
                    <a:gd name="adj1" fmla="val 50000"/>
                    <a:gd name="adj2" fmla="val 122955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037400" y="1050480"/>
                <a:ext cx="2710080" cy="7953480"/>
                <a:chOff x="4037400" y="1050480"/>
                <a:chExt cx="2710080" cy="7953480"/>
              </a:xfrm>
            </p:grpSpPr>
            <p:pic>
              <p:nvPicPr>
                <p:cNvPr id="473" name="" descr="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4037400" y="5569920"/>
                  <a:ext cx="2710080" cy="34340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74" name=""/>
                <p:cNvGrpSpPr/>
                <p:nvPr/>
              </p:nvGrpSpPr>
              <p:grpSpPr>
                <a:xfrm>
                  <a:off x="4313880" y="1050480"/>
                  <a:ext cx="2212200" cy="2942640"/>
                  <a:chOff x="4313880" y="1050480"/>
                  <a:chExt cx="2212200" cy="294264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313880" y="1050480"/>
                    <a:ext cx="2212200" cy="2942640"/>
                  </a:xfrm>
                  <a:prstGeom prst="cloudCallout">
                    <a:avLst>
                      <a:gd name="adj1" fmla="val 8583"/>
                      <a:gd name="adj2" fmla="val 9569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cc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313880" y="1785960"/>
                    <a:ext cx="2212200" cy="189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أوازن بين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الضم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ar-SA" sz="2800" spc="-1" strike="noStrike">
                        <a:solidFill>
                          <a:srgbClr val="000000"/>
                        </a:solidFill>
                        <a:latin typeface="Times New Roman"/>
                        <a:cs typeface="Times New Roman"/>
                      </a:rPr>
                      <a:t>والمد بالواو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12:24Z</dcterms:created>
  <dc:creator>sa</dc:creator>
  <dc:description/>
  <dc:language>en-US</dc:language>
  <cp:lastModifiedBy>صعوبات</cp:lastModifiedBy>
  <dcterms:modified xsi:type="dcterms:W3CDTF">2008-10-11T20:20:48Z</dcterms:modified>
  <cp:revision>6</cp:revision>
  <dc:subject/>
  <dc:title>الشريحة 1</dc:title>
</cp:coreProperties>
</file>